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24.png" ContentType="image/png"/>
  <Override PartName="/ppt/media/image92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122.jpeg" ContentType="image/jpeg"/>
  <Override PartName="/ppt/media/image25.png" ContentType="image/png"/>
  <Override PartName="/ppt/media/image9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49.jpeg" ContentType="image/jpeg"/>
  <Override PartName="/ppt/media/image88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20.png" ContentType="image/png"/>
  <Override PartName="/ppt/media/image13.jpeg" ContentType="image/jpeg"/>
  <Override PartName="/ppt/media/image109.jpeg" ContentType="image/jpeg"/>
  <Override PartName="/ppt/media/image44.png" ContentType="image/png"/>
  <Override PartName="/ppt/media/image33.jpeg" ContentType="image/jpeg"/>
  <Override PartName="/ppt/media/image5.png" ContentType="image/png"/>
  <Override PartName="/ppt/media/image39.jpeg" ContentType="image/jpeg"/>
  <Override PartName="/ppt/media/image35.png" ContentType="image/png"/>
  <Override PartName="/ppt/media/image57.png" ContentType="image/png"/>
  <Override PartName="/ppt/media/image114.jpeg" ContentType="image/jpeg"/>
  <Override PartName="/ppt/media/image10.png" ContentType="image/png"/>
  <Override PartName="/ppt/media/image4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4.png" ContentType="image/png"/>
  <Override PartName="/ppt/media/image5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1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.png" ContentType="image/png"/>
  <Override PartName="/ppt/media/image83.png" ContentType="image/png"/>
  <Override PartName="/ppt/media/image15.png" ContentType="image/png"/>
  <Override PartName="/ppt/media/image37.png" ContentType="image/png"/>
  <Override PartName="/ppt/media/image36.png" ContentType="image/png"/>
  <Override PartName="/ppt/media/image128.jpeg" ContentType="image/jpeg"/>
  <Override PartName="/ppt/media/image9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2.png" ContentType="image/png"/>
  <Override PartName="/ppt/media/image19.jpeg" ContentType="image/jpeg"/>
  <Override PartName="/ppt/media/image42.png" ContentType="image/png"/>
  <Override PartName="/ppt/media/image26.jpeg" ContentType="image/jpeg"/>
  <Override PartName="/ppt/media/image101.png" ContentType="image/png"/>
  <Override PartName="/ppt/media/image126.jpeg" ContentType="image/jpeg"/>
  <Override PartName="/ppt/media/image116.png" ContentType="image/png"/>
  <Override PartName="/ppt/media/image17.jpeg" ContentType="image/jpeg"/>
  <Override PartName="/ppt/media/image60.png" ContentType="image/png"/>
  <Override PartName="/ppt/media/image85.png" ContentType="image/png"/>
  <Override PartName="/ppt/media/image110.jpeg" ContentType="image/jpeg"/>
  <Override PartName="/ppt/media/image61.png" ContentType="image/png"/>
  <Override PartName="/ppt/media/image62.png" ContentType="image/png"/>
  <Override PartName="/ppt/media/image64.png" ContentType="image/png"/>
  <Override PartName="/ppt/media/image77.jpeg" ContentType="image/jpeg"/>
  <Override PartName="/ppt/media/image55.png" ContentType="image/png"/>
  <Override PartName="/ppt/media/image80.jpeg" ContentType="image/jpe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53.png" ContentType="image/png"/>
  <Override PartName="/ppt/media/image70.jpeg" ContentType="image/jpeg"/>
  <Override PartName="/ppt/media/image63.png" ContentType="image/png"/>
  <Override PartName="/ppt/media/image71.jpeg" ContentType="image/jpeg"/>
  <Override PartName="/ppt/media/image72.png" ContentType="image/pn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79.jpeg" ContentType="image/jpeg"/>
  <Override PartName="/ppt/media/image75.png" ContentType="image/png"/>
  <Override PartName="/ppt/media/image81.jpeg" ContentType="image/jpeg"/>
  <Override PartName="/ppt/media/image76.png" ContentType="image/png"/>
  <Override PartName="/ppt/media/image121.jpeg" ContentType="image/jpeg"/>
  <Override PartName="/ppt/media/image117.jpeg" ContentType="image/jpeg"/>
  <Override PartName="/ppt/media/image87.png" ContentType="image/png"/>
  <Override PartName="/ppt/media/image89.png" ContentType="image/png"/>
  <Override PartName="/ppt/media/image91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0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7.jpeg" ContentType="image/jpeg"/>
  <Override PartName="/ppt/media/image27.png" ContentType="image/png"/>
  <Override PartName="/ppt/media/image95.png" ContentType="image/png"/>
  <Override PartName="/ppt/media/image111.jpeg" ContentType="image/jpeg"/>
  <Override PartName="/ppt/media/image112.png" ContentType="image/png"/>
  <Override PartName="/ppt/media/image113.png" ContentType="image/png"/>
  <Override PartName="/ppt/media/image124.jpeg" ContentType="image/jpeg"/>
  <Override PartName="/ppt/media/image106.png" ContentType="image/pn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E19-ED58-4CA4-A282-1C7F61749C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538A-4E4D-4167-9FC1-7F9BC9F886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7B3-E430-49EE-BA85-F1BDC311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18E-DD13-4872-B569-7326278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6AE-9006-4086-B628-F398DD8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734-EC24-4059-A66A-FB857BAC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E19-9B90-49A4-8DAC-EAEB7B16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2F7-6E3F-4308-807A-6A1638BA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2D4-28BE-4B38-95FF-0DBC5154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C6F-0E4C-4219-A578-818DF55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036-19D9-45D8-ADD8-5062C7C7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AF6-2F3C-461F-94CF-EB8D1935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B30-1B9D-45CA-B799-B3E6306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032-0CC1-4991-8977-D49BFA3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E685-D7A6-477F-AB7C-D628CB24D41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/ 49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5486400" y="581040"/>
            <a:ext cx="3629160" cy="104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a9a9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5867280" y="212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6.pn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pn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㈜</a:t>
            </a:r>
            <a:r>
              <a:rPr b="1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온누리인포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액티브포스트 </a:t>
            </a:r>
            <a:r>
              <a:rPr b="1" lang="en-US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G-Suite v3.6</a:t>
            </a:r>
            <a:br>
              <a:rPr sz="3800"/>
            </a:b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반사용자 사용설명서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03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altime Instant Messaging With ActivePost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1037" descr="PRT_Title"/>
          <p:cNvPicPr/>
          <p:nvPr/>
        </p:nvPicPr>
        <p:blipFill>
          <a:blip r:embed="rId1"/>
          <a:stretch/>
        </p:blipFill>
        <p:spPr>
          <a:xfrm>
            <a:off x="0" y="0"/>
            <a:ext cx="9144000" cy="178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8"/>
          <p:cNvSpPr/>
          <p:nvPr/>
        </p:nvSpPr>
        <p:spPr>
          <a:xfrm>
            <a:off x="4287600" y="262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build your Real-time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039"/>
          <p:cNvSpPr/>
          <p:nvPr/>
        </p:nvSpPr>
        <p:spPr>
          <a:xfrm>
            <a:off x="4282920" y="10666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aste a Different Messenger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5076720" y="4186080"/>
            <a:ext cx="3291120" cy="2414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oyoun\Desktop\제목 없음.jpg"/>
          <p:cNvPicPr/>
          <p:nvPr/>
        </p:nvPicPr>
        <p:blipFill>
          <a:blip r:embed="rId2"/>
          <a:stretch/>
        </p:blipFill>
        <p:spPr>
          <a:xfrm>
            <a:off x="5076720" y="1454040"/>
            <a:ext cx="3291120" cy="2495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읽음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확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전 송시 수신대상자들의 수신확인 여부를 설정하여 발송할 수 있으며 쪽지 보관함에서 수신확인 여부를 알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전 송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확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선택하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838080" y="198900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화면에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체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3851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인 여부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429264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＇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수신확인이 설정된 쪽지들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탭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6156360" y="1833480"/>
            <a:ext cx="431640" cy="1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024600" y="5381640"/>
            <a:ext cx="431640" cy="122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2050920" y="4521240"/>
            <a:ext cx="6922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시 여러 가지 방법으로 수신을 알립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스크롤 팝업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38080" y="19162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을 하면 아래와 같이 스크롤 팝업 이 나타나며 나타나는 시간은 환경설정에서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3520" y="296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창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확인 메시지 리스트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838080" y="33577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종류의 미확인 메시지가 한 화면에 종류별 리스트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71600" y="4262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보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76160" y="465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오면 미확인 메시지 리스트에서 해당 메시지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내용을 보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                     을 클릭하면 내용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1905120" y="5186520"/>
            <a:ext cx="731880" cy="27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C:\Users\soyoun\Desktop\도움말\쪽지전송\쪽지_수신쪽지보관함.jpg"/>
          <p:cNvPicPr/>
          <p:nvPr/>
        </p:nvPicPr>
        <p:blipFill>
          <a:blip r:embed="rId2"/>
          <a:stretch/>
        </p:blipFill>
        <p:spPr>
          <a:xfrm>
            <a:off x="5875200" y="4562640"/>
            <a:ext cx="2735280" cy="209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7029360" y="1628640"/>
            <a:ext cx="1581120" cy="109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6461280" y="2779560"/>
            <a:ext cx="21492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3520" y="9810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받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38080" y="1268280"/>
            <a:ext cx="4381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할 첨부파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선택한 후 다운로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누르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33520" y="2492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38080" y="2781360"/>
            <a:ext cx="411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12640" y="45338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38080" y="4842000"/>
            <a:ext cx="416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받은 쪽지와 첨부된 파일 그대로를 다른 사용자들에게 보낼 때 사용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33520" y="55418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38080" y="5851440"/>
            <a:ext cx="6782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인쇄하고자 할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인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인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14" descr="16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18"/>
          <p:cNvPicPr/>
          <p:nvPr/>
        </p:nvPicPr>
        <p:blipFill>
          <a:blip r:embed="rId2"/>
          <a:stretch/>
        </p:blipFill>
        <p:spPr>
          <a:xfrm>
            <a:off x="3125880" y="1290600"/>
            <a:ext cx="608040" cy="27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17"/>
          <p:cNvPicPr/>
          <p:nvPr/>
        </p:nvPicPr>
        <p:blipFill>
          <a:blip r:embed="rId3"/>
          <a:stretch/>
        </p:blipFill>
        <p:spPr>
          <a:xfrm>
            <a:off x="2103480" y="1725480"/>
            <a:ext cx="596880" cy="2764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533520" y="3524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838080" y="3846600"/>
            <a:ext cx="411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과 함께 받은 사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4"/>
          <a:stretch/>
        </p:blipFill>
        <p:spPr>
          <a:xfrm>
            <a:off x="5078520" y="3624120"/>
            <a:ext cx="3760560" cy="2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보관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8380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는 발신한 쪽지와 수신된 쪽지들이 리스트형태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저장되어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서는 검색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쇄 등의 작업을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특히 발신 쪽지함에서는 수신확인 여부를 확인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12640" y="2071800"/>
            <a:ext cx="44197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검색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인 또는 발신인 이름으로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체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회신쪽지를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달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다른 사용자들에게 전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를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의 내용을 인쇄하거나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여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쪽지함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 송시 수신확인 체크가 있는 쪽지는 발신쪽지함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확인 여부를 체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세한 사항은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 수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메뉴를 참조하세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Picture 6" descr="C:\Users\soyoun\Desktop\도움말\쪽지전송\쪽지_수신쪽지보관함.jpg"/>
          <p:cNvPicPr/>
          <p:nvPr/>
        </p:nvPicPr>
        <p:blipFill>
          <a:blip r:embed="rId1"/>
          <a:stretch/>
        </p:blipFill>
        <p:spPr>
          <a:xfrm>
            <a:off x="4826160" y="2637000"/>
            <a:ext cx="417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1" descr=""/>
          <p:cNvPicPr/>
          <p:nvPr/>
        </p:nvPicPr>
        <p:blipFill>
          <a:blip r:embed="rId1"/>
          <a:stretch/>
        </p:blipFill>
        <p:spPr>
          <a:xfrm>
            <a:off x="4854600" y="2444760"/>
            <a:ext cx="17334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"/>
          <p:cNvPicPr/>
          <p:nvPr/>
        </p:nvPicPr>
        <p:blipFill>
          <a:blip r:embed="rId2"/>
          <a:stretch/>
        </p:blipFill>
        <p:spPr>
          <a:xfrm>
            <a:off x="6029280" y="1187280"/>
            <a:ext cx="1567080" cy="11685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채팅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으로 상대방에게 채팅 메시지를 전송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채팅은 기본적으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MS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과 비슷한 인터페이스로 작동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시작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38080" y="184464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 되어 있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를 선택하여 팝업메뉴가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채팅 시작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이 아닌 다른 상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사용자에게는 채팅을 신청할 수 없습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00040" y="298116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초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04960" y="3341520"/>
            <a:ext cx="4114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창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초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초대할 사용자를 선택하여 대상자 리스트에 올려놓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85640" y="41576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90560" y="4510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’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전송 화면에서         을 클릭하여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90680" y="53323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내용 저장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T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형태로 저장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95240" y="5742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할 파일이름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하려면 환경설정에서 설정하면 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5978520" y="1376280"/>
            <a:ext cx="1665360" cy="20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5065560" y="2540160"/>
            <a:ext cx="18108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813720" y="2444760"/>
            <a:ext cx="1869840" cy="1308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4"/>
          <a:stretch/>
        </p:blipFill>
        <p:spPr>
          <a:xfrm>
            <a:off x="5956200" y="3784680"/>
            <a:ext cx="27338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"/>
          <p:cNvPicPr/>
          <p:nvPr/>
        </p:nvPicPr>
        <p:blipFill>
          <a:blip r:embed="rId5"/>
          <a:stretch/>
        </p:blipFill>
        <p:spPr>
          <a:xfrm>
            <a:off x="2662200" y="4781520"/>
            <a:ext cx="366840" cy="131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C:\Users\soyoun\Desktop\도움말\채팅\채팅_초대버튼.jpg"/>
          <p:cNvPicPr/>
          <p:nvPr/>
        </p:nvPicPr>
        <p:blipFill>
          <a:blip r:embed="rId6"/>
          <a:stretch/>
        </p:blipFill>
        <p:spPr>
          <a:xfrm>
            <a:off x="2195640" y="3193920"/>
            <a:ext cx="46656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"/>
          <p:cNvPicPr/>
          <p:nvPr/>
        </p:nvPicPr>
        <p:blipFill>
          <a:blip r:embed="rId7"/>
          <a:stretch/>
        </p:blipFill>
        <p:spPr>
          <a:xfrm>
            <a:off x="2855880" y="3753000"/>
            <a:ext cx="420840" cy="193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8"/>
          <a:stretch/>
        </p:blipFill>
        <p:spPr>
          <a:xfrm>
            <a:off x="2266920" y="435780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"/>
          <p:cNvPicPr/>
          <p:nvPr/>
        </p:nvPicPr>
        <p:blipFill>
          <a:blip r:embed="rId9"/>
          <a:stretch/>
        </p:blipFill>
        <p:spPr>
          <a:xfrm>
            <a:off x="6708600" y="5084640"/>
            <a:ext cx="1973520" cy="1614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7"/>
          <p:cNvSpPr/>
          <p:nvPr/>
        </p:nvSpPr>
        <p:spPr>
          <a:xfrm>
            <a:off x="7493040" y="6273720"/>
            <a:ext cx="174600" cy="1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Picture 29" descr=""/>
          <p:cNvPicPr/>
          <p:nvPr/>
        </p:nvPicPr>
        <p:blipFill>
          <a:blip r:embed="rId10"/>
          <a:stretch/>
        </p:blipFill>
        <p:spPr>
          <a:xfrm>
            <a:off x="2247840" y="5788080"/>
            <a:ext cx="5144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음성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채팅대화 상대와 함께 음성대화를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되므로 네트워크가 서로 다른 환경에서는 동작하지 않을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20640" y="1849320"/>
            <a:ext cx="411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음성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음성 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채팅대화 초대 알람이 전송되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옆 그림과 같이 음성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543840" y="45720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8011800" y="594360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1"/>
          <a:stretch/>
        </p:blipFill>
        <p:spPr>
          <a:xfrm>
            <a:off x="5056200" y="1427040"/>
            <a:ext cx="2797200" cy="24415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7449120" y="27432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4932360" y="1682640"/>
            <a:ext cx="2959200" cy="214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13" descr=""/>
          <p:cNvPicPr/>
          <p:nvPr/>
        </p:nvPicPr>
        <p:blipFill>
          <a:blip r:embed="rId2"/>
          <a:stretch/>
        </p:blipFill>
        <p:spPr>
          <a:xfrm>
            <a:off x="1042920" y="3014640"/>
            <a:ext cx="2062080" cy="1876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3"/>
          <a:stretch/>
        </p:blipFill>
        <p:spPr>
          <a:xfrm>
            <a:off x="5056200" y="4046400"/>
            <a:ext cx="24591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/>
          <a:stretch/>
        </p:blipFill>
        <p:spPr>
          <a:xfrm>
            <a:off x="5877000" y="1628640"/>
            <a:ext cx="2431800" cy="20844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웹캠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화상화면만을 보면서 문자채팅을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때 음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Audio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는 하지 않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웹캠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웹캠으로 초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오디오사용안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웹캠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웹캠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757280" y="3357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814860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6875640" y="1990800"/>
            <a:ext cx="1439640" cy="152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Picture 15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2952720" cy="26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"/>
          <p:cNvPicPr/>
          <p:nvPr/>
        </p:nvPicPr>
        <p:blipFill>
          <a:blip r:embed="rId1"/>
          <a:stretch/>
        </p:blipFill>
        <p:spPr>
          <a:xfrm>
            <a:off x="5181480" y="1428840"/>
            <a:ext cx="2648160" cy="2287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상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음성과 화상대화를 동시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상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화상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화상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화상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173080" y="3276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18352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6372360" y="1962000"/>
            <a:ext cx="1368360" cy="217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15" descr=""/>
          <p:cNvPicPr/>
          <p:nvPr/>
        </p:nvPicPr>
        <p:blipFill>
          <a:blip r:embed="rId2"/>
          <a:stretch/>
        </p:blipFill>
        <p:spPr>
          <a:xfrm>
            <a:off x="1403280" y="3168720"/>
            <a:ext cx="2873520" cy="2614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5764320" y="1685880"/>
            <a:ext cx="2438280" cy="3610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원격제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520" y="8380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상대방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면을 직접 제어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원칙적으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방식으로 제공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따라서 같은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영역 대에 있는 사용자 컴퓨터간에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기능을 제공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한 컴퓨터에서 여러 대의 컴퓨터를 원격제어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9480" y="2209680"/>
            <a:ext cx="51055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원격제어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원격제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원격제어 초대 메시지를 아래와 같이 보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원격제어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 화면을 보면서 원격제어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421320" y="2441520"/>
            <a:ext cx="1368720" cy="217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024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533520" y="8380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은 인터넷 게시판과 같이 권한을 부여 받은 사용자들이 실시간으로 게시물과 파일을 등록하여 정보를 공유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지만 인터넷 게시판의 단점을 보완하여 게시물이 등록되면 관련 사용자들에게 실시간 알람을 주며 게시물을 읽은 사용자들을 확인할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79480" y="2300400"/>
            <a:ext cx="52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권한 체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버프로그램에서 권한 지정 가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84400" y="2525760"/>
            <a:ext cx="58356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모든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모든 답변 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 및 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답글 수정 및 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답글 달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※ 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위의 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3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개 권한 중 한 개 권한만 지정 가능합니다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.(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중복 절대 불가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28600" y="861840"/>
            <a:ext cx="8610480" cy="571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982800"/>
            <a:ext cx="41716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G-Suite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요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구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요구사양 및 프로그램 설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접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‥‥‥‥‥‥‥‥‥‥‥‥‥‥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소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사용자 추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및 내용보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권한 체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작성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 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내용열람 및 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답변달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‥2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2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설문회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작성 및 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신 및 답변작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취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로 저장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문자전송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방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장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사용자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 3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9320" y="1004760"/>
            <a:ext cx="418608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모티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보낸 메시지 함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괄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개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권한 체계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0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1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다운로드 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폴더만들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4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이름 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배너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뉴스티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 ‥‥‥‥‥‥‥‥‥‥‥‥‥‥4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 및 보내기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알람 환경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수신 알람  및 내용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추가 및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수정 및 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상태 및 별칭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환경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3,5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반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알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탭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6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SMS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주 묻는 질문응답 모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고객지원 연락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30492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목 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38080" y="2120760"/>
            <a:ext cx="4114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게시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게시판을 선택한 후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 그리고 첨부할 파일이 있으면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941640" y="313992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974880" y="140796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작성권한을 가진 사용자만이 작성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7578720" y="789120"/>
            <a:ext cx="1170000" cy="150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2"/>
          <a:stretch/>
        </p:blipFill>
        <p:spPr>
          <a:xfrm>
            <a:off x="5148360" y="2413080"/>
            <a:ext cx="3600360" cy="204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3"/>
          <a:stretch/>
        </p:blipFill>
        <p:spPr>
          <a:xfrm>
            <a:off x="6621480" y="4653000"/>
            <a:ext cx="2128680" cy="1757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4"/>
          <a:stretch/>
        </p:blipFill>
        <p:spPr>
          <a:xfrm>
            <a:off x="3276720" y="2522520"/>
            <a:ext cx="565200" cy="227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"/>
          <p:cNvPicPr/>
          <p:nvPr/>
        </p:nvPicPr>
        <p:blipFill>
          <a:blip r:embed="rId5"/>
          <a:stretch/>
        </p:blipFill>
        <p:spPr>
          <a:xfrm>
            <a:off x="1332000" y="3629160"/>
            <a:ext cx="4842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533520" y="1074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내용열람 및 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38080" y="2120760"/>
            <a:ext cx="43434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 메뉴선택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아이콘 클릭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단의 공지제목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게시판 내용을 바로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명 리스트에서 원하는 게시판을 선택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게시 리스트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게시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아래와 같이 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다운로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내용에 첨부된 파일은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새로운 게시물이 등록되면 관련 사용자들에게 실시간으로 게시물이 올라왔음을 프로그램 하단 게시 리스트로 알려줍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16" descr="17"/>
          <p:cNvPicPr/>
          <p:nvPr/>
        </p:nvPicPr>
        <p:blipFill>
          <a:blip r:embed="rId1"/>
          <a:stretch/>
        </p:blipFill>
        <p:spPr>
          <a:xfrm>
            <a:off x="1676520" y="4005360"/>
            <a:ext cx="563400" cy="26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18"/>
          <p:cNvPicPr/>
          <p:nvPr/>
        </p:nvPicPr>
        <p:blipFill>
          <a:blip r:embed="rId2"/>
          <a:stretch/>
        </p:blipFill>
        <p:spPr>
          <a:xfrm>
            <a:off x="3276720" y="3733920"/>
            <a:ext cx="533160" cy="241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3"/>
          <a:stretch/>
        </p:blipFill>
        <p:spPr>
          <a:xfrm>
            <a:off x="2797200" y="2070000"/>
            <a:ext cx="250920" cy="27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4"/>
          <a:stretch/>
        </p:blipFill>
        <p:spPr>
          <a:xfrm>
            <a:off x="5429160" y="2120760"/>
            <a:ext cx="3407040" cy="841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"/>
          <p:cNvPicPr/>
          <p:nvPr/>
        </p:nvPicPr>
        <p:blipFill>
          <a:blip r:embed="rId5"/>
          <a:stretch/>
        </p:blipFill>
        <p:spPr>
          <a:xfrm>
            <a:off x="5388120" y="3227400"/>
            <a:ext cx="3448080" cy="74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"/>
          <p:cNvPicPr/>
          <p:nvPr/>
        </p:nvPicPr>
        <p:blipFill>
          <a:blip r:embed="rId6"/>
          <a:stretch/>
        </p:blipFill>
        <p:spPr>
          <a:xfrm>
            <a:off x="6068880" y="4270320"/>
            <a:ext cx="276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 답글 달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2120760"/>
            <a:ext cx="4114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내용화면에서 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답글에 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을 달면 아래 그림과 같이 답글 목록 리스트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당 게시판에 권한을 가진 모든 사용자는 게시물에 대해 답글을 달 수 있으며 중복으로 달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4754520" y="2709720"/>
            <a:ext cx="4138560" cy="476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1979640" y="4287960"/>
            <a:ext cx="5676840" cy="109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3"/>
          <a:stretch/>
        </p:blipFill>
        <p:spPr>
          <a:xfrm>
            <a:off x="2941560" y="2124000"/>
            <a:ext cx="647640" cy="26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4"/>
          <a:stretch/>
        </p:blipFill>
        <p:spPr>
          <a:xfrm>
            <a:off x="1352520" y="3073320"/>
            <a:ext cx="647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1844640"/>
            <a:ext cx="4114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내용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74880" y="138600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에 첨부된 파일들을 다운로드 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520" y="10526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Picture 11" descr="18"/>
          <p:cNvPicPr/>
          <p:nvPr/>
        </p:nvPicPr>
        <p:blipFill>
          <a:blip r:embed="rId1"/>
          <a:stretch/>
        </p:blipFill>
        <p:spPr>
          <a:xfrm>
            <a:off x="2627280" y="191628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17"/>
          <p:cNvPicPr/>
          <p:nvPr/>
        </p:nvPicPr>
        <p:blipFill>
          <a:blip r:embed="rId2"/>
          <a:stretch/>
        </p:blipFill>
        <p:spPr>
          <a:xfrm>
            <a:off x="1676520" y="2101680"/>
            <a:ext cx="457200" cy="21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641920" y="3573360"/>
            <a:ext cx="3218040" cy="261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4"/>
          <a:stretch/>
        </p:blipFill>
        <p:spPr>
          <a:xfrm>
            <a:off x="5651640" y="861840"/>
            <a:ext cx="31986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41440" y="981000"/>
            <a:ext cx="755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들에게 의견 또는 조사항목을 작성하여 보내고 그 결과를 취합하여 한눈에 알아볼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문 항목은 작성자가 자유롭게 생성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합결과는 인쇄 및 파일로 저장 가능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2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508040"/>
            <a:ext cx="4114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왼쪽 메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수신자를 선택하고 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설문항목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은 자유자재로 개수에 상관없이 입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항목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내용수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내용을 수정하려면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버튼을 누른 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위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아래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 순서를 위로 또는 아래로 순서를 바꿉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추가하여 설문과 함께 전송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성 및 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Picture 8" descr="Capture176"/>
          <p:cNvPicPr/>
          <p:nvPr/>
        </p:nvPicPr>
        <p:blipFill>
          <a:blip r:embed="rId1"/>
          <a:stretch/>
        </p:blipFill>
        <p:spPr>
          <a:xfrm>
            <a:off x="3421080" y="3352680"/>
            <a:ext cx="846000" cy="320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apture178"/>
          <p:cNvPicPr/>
          <p:nvPr/>
        </p:nvPicPr>
        <p:blipFill>
          <a:blip r:embed="rId2"/>
          <a:stretch/>
        </p:blipFill>
        <p:spPr>
          <a:xfrm>
            <a:off x="1752480" y="4386240"/>
            <a:ext cx="857520" cy="331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37"/>
          <p:cNvPicPr/>
          <p:nvPr/>
        </p:nvPicPr>
        <p:blipFill>
          <a:blip r:embed="rId3"/>
          <a:stretch/>
        </p:blipFill>
        <p:spPr>
          <a:xfrm>
            <a:off x="3048120" y="1484280"/>
            <a:ext cx="549000" cy="51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2737080" cy="140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629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914400" y="1508040"/>
            <a:ext cx="43434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에 새로운 설문이 도착하면 옆 그림과 같이 알람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설문 개수는 상단에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과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 설문 탭에 수신된 설문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을 선택하고 비고사항이 있으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설문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및 답변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4" name="Picture 13" descr="39"/>
          <p:cNvPicPr/>
          <p:nvPr/>
        </p:nvPicPr>
        <p:blipFill>
          <a:blip r:embed="rId1"/>
          <a:stretch/>
        </p:blipFill>
        <p:spPr>
          <a:xfrm>
            <a:off x="6324480" y="1143000"/>
            <a:ext cx="1965600" cy="1406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40"/>
          <p:cNvPicPr/>
          <p:nvPr/>
        </p:nvPicPr>
        <p:blipFill>
          <a:blip r:embed="rId2"/>
          <a:stretch/>
        </p:blipFill>
        <p:spPr>
          <a:xfrm>
            <a:off x="3417840" y="2209680"/>
            <a:ext cx="1077840" cy="373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42"/>
          <p:cNvPicPr/>
          <p:nvPr/>
        </p:nvPicPr>
        <p:blipFill>
          <a:blip r:embed="rId3"/>
          <a:stretch/>
        </p:blipFill>
        <p:spPr>
          <a:xfrm>
            <a:off x="1547640" y="4149720"/>
            <a:ext cx="777960" cy="331920"/>
          </a:xfrm>
          <a:prstGeom prst="rect">
            <a:avLst/>
          </a:prstGeom>
          <a:ln w="0">
            <a:noFill/>
          </a:ln>
        </p:spPr>
      </p:pic>
      <p:pic>
        <p:nvPicPr>
          <p:cNvPr id="367" name="그림 9" descr="설문함.jpg"/>
          <p:cNvPicPr/>
          <p:nvPr/>
        </p:nvPicPr>
        <p:blipFill>
          <a:blip r:embed="rId4"/>
          <a:stretch/>
        </p:blipFill>
        <p:spPr>
          <a:xfrm>
            <a:off x="5292720" y="2781360"/>
            <a:ext cx="3327480" cy="3370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457200" y="1981080"/>
            <a:ext cx="41148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발신 설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 확인을 원하는 설문결과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결과 탭을 선택하면 설문결과를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결과 출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설문 탭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버튼을 누르면 아래 그림과 같이 출력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화면에서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S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539640" y="836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 취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로 저장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054160" y="1197000"/>
            <a:ext cx="433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람설문 결과를 보낸 사용자는 결과를 텍스트 또는 파일로 출력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Picture 7" descr="Capture185"/>
          <p:cNvPicPr/>
          <p:nvPr/>
        </p:nvPicPr>
        <p:blipFill>
          <a:blip r:embed="rId1"/>
          <a:stretch/>
        </p:blipFill>
        <p:spPr>
          <a:xfrm>
            <a:off x="3475080" y="3276720"/>
            <a:ext cx="639720" cy="33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Capture187"/>
          <p:cNvPicPr/>
          <p:nvPr/>
        </p:nvPicPr>
        <p:blipFill>
          <a:blip r:embed="rId2"/>
          <a:stretch/>
        </p:blipFill>
        <p:spPr>
          <a:xfrm>
            <a:off x="2627280" y="4076640"/>
            <a:ext cx="8222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그림 13" descr="설문함3.jpg"/>
          <p:cNvPicPr/>
          <p:nvPr/>
        </p:nvPicPr>
        <p:blipFill>
          <a:blip r:embed="rId3"/>
          <a:stretch/>
        </p:blipFill>
        <p:spPr>
          <a:xfrm>
            <a:off x="4788000" y="4149720"/>
            <a:ext cx="308592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그림 14" descr="설문함2.jpg"/>
          <p:cNvPicPr/>
          <p:nvPr/>
        </p:nvPicPr>
        <p:blipFill>
          <a:blip r:embed="rId4"/>
          <a:stretch/>
        </p:blipFill>
        <p:spPr>
          <a:xfrm>
            <a:off x="4788000" y="1700280"/>
            <a:ext cx="35272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9640" y="96984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들과 외부 사용자들에게 문자전송을 할 수 있는 기능입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11280" y="162864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의 개인이나  부서 또는 그룹에서 한 명 이상의 대상자를 선택 후 오른쪽 마우스 버튼을 클릭하여  문자 전송기를 선택하여 실행하거나 메신저 탭 내 문자전송 탭을 선택하여 실행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그림 11" descr="문자전송.jpg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539640" y="96984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3851280" y="1197000"/>
            <a:ext cx="4033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입력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 메시지를 입력하는 창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전송 카운트 및 길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의 남은 개수와 문자열 길이를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툴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검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모티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함 아이콘이며 각 버튼 클릭 시 메뉴에 따른 확장 화면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창 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확장 화면을 보여주며 처음 클릭 시 주소록을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기본 송신번호를 불러오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팝업 검색 창을 화면에 띄워 검색으로 입력을 넣거나 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시에 여러 사람에게 문자전송 시 리스트에 추가 되며 수신번호 선택 후 오른쪽 마우스를 클릭하여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기화 할 수 있으며 카운트를 통해 대상자 카운트를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입력창 내용을 수신번호로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시간을 설정하여 설정 한 시간에 입력창 내용을 수신번호로 전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3" name="Group 48"/>
          <p:cNvGrpSpPr/>
          <p:nvPr/>
        </p:nvGrpSpPr>
        <p:grpSpPr>
          <a:xfrm>
            <a:off x="755640" y="1700280"/>
            <a:ext cx="2303640" cy="4465440"/>
            <a:chOff x="755640" y="1700280"/>
            <a:chExt cx="2303640" cy="4465440"/>
          </a:xfrm>
        </p:grpSpPr>
        <p:pic>
          <p:nvPicPr>
            <p:cNvPr id="384" name="Picture 47" descr="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2089440" cy="44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34"/>
            <p:cNvSpPr/>
            <p:nvPr/>
          </p:nvSpPr>
          <p:spPr>
            <a:xfrm>
              <a:off x="219564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1692360" y="2433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755640" y="3139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Rectangle 39"/>
            <p:cNvSpPr/>
            <p:nvPr/>
          </p:nvSpPr>
          <p:spPr>
            <a:xfrm>
              <a:off x="755640" y="33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755640" y="3657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Rectangle 41"/>
            <p:cNvSpPr/>
            <p:nvPr/>
          </p:nvSpPr>
          <p:spPr>
            <a:xfrm>
              <a:off x="2627280" y="3513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Rectangle 42"/>
            <p:cNvSpPr/>
            <p:nvPr/>
          </p:nvSpPr>
          <p:spPr>
            <a:xfrm>
              <a:off x="755640" y="3932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Rectangle 43"/>
            <p:cNvSpPr/>
            <p:nvPr/>
          </p:nvSpPr>
          <p:spPr>
            <a:xfrm>
              <a:off x="755640" y="4233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Rectangle 44"/>
            <p:cNvSpPr/>
            <p:nvPr/>
          </p:nvSpPr>
          <p:spPr>
            <a:xfrm>
              <a:off x="755640" y="5602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Rectangle 45"/>
            <p:cNvSpPr/>
            <p:nvPr/>
          </p:nvSpPr>
          <p:spPr>
            <a:xfrm>
              <a:off x="2556000" y="558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⑩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액티브포스트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G-Suite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28600" y="80964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액티브포스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-Suit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는 그룹웨어 기능과  메신저 기능이 복합된 업무용 메신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학교나 기업의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기반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으로 버디리스트가 구성되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쪽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전송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음성화상대화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격제어와 함께 실시간 공지 게시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료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박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일정공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 회람설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일알람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능을 통해 조직원간 업무 생산성 및 커뮤니케이션을 향상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47"/>
          <p:cNvSpPr/>
          <p:nvPr/>
        </p:nvSpPr>
        <p:spPr>
          <a:xfrm>
            <a:off x="304920" y="2422440"/>
            <a:ext cx="86104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Oval 148"/>
          <p:cNvSpPr/>
          <p:nvPr/>
        </p:nvSpPr>
        <p:spPr>
          <a:xfrm>
            <a:off x="1219320" y="2575080"/>
            <a:ext cx="6629400" cy="3581280"/>
          </a:xfrm>
          <a:prstGeom prst="ellipse">
            <a:avLst/>
          </a:prstGeom>
          <a:gradFill rotWithShape="0">
            <a:gsLst>
              <a:gs pos="0">
                <a:srgbClr val="99e591"/>
              </a:gs>
              <a:gs pos="100000">
                <a:srgbClr val="e5f8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6172200" y="3946680"/>
            <a:ext cx="1447560" cy="672840"/>
            <a:chOff x="6172200" y="3946680"/>
            <a:chExt cx="1447560" cy="672840"/>
          </a:xfrm>
        </p:grpSpPr>
        <p:pic>
          <p:nvPicPr>
            <p:cNvPr id="65" name="Picture 150" descr=""/>
            <p:cNvPicPr/>
            <p:nvPr/>
          </p:nvPicPr>
          <p:blipFill>
            <a:blip r:embed="rId1"/>
            <a:stretch/>
          </p:blipFill>
          <p:spPr>
            <a:xfrm>
              <a:off x="6172200" y="3946680"/>
              <a:ext cx="1447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51"/>
            <p:cNvSpPr/>
            <p:nvPr/>
          </p:nvSpPr>
          <p:spPr>
            <a:xfrm>
              <a:off x="661860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박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" name="Group 152"/>
          <p:cNvGrpSpPr/>
          <p:nvPr/>
        </p:nvGrpSpPr>
        <p:grpSpPr>
          <a:xfrm>
            <a:off x="5334120" y="3108240"/>
            <a:ext cx="1429920" cy="736200"/>
            <a:chOff x="5334120" y="3108240"/>
            <a:chExt cx="1429920" cy="736200"/>
          </a:xfrm>
        </p:grpSpPr>
        <p:pic>
          <p:nvPicPr>
            <p:cNvPr id="68" name="Picture 153" descr=""/>
            <p:cNvPicPr/>
            <p:nvPr/>
          </p:nvPicPr>
          <p:blipFill>
            <a:blip r:embed="rId2"/>
            <a:stretch/>
          </p:blipFill>
          <p:spPr>
            <a:xfrm>
              <a:off x="5334120" y="3108240"/>
              <a:ext cx="142992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54"/>
            <p:cNvSpPr/>
            <p:nvPr/>
          </p:nvSpPr>
          <p:spPr>
            <a:xfrm>
              <a:off x="5821200" y="33390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게시판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0" name="Group 155"/>
          <p:cNvGrpSpPr/>
          <p:nvPr/>
        </p:nvGrpSpPr>
        <p:grpSpPr>
          <a:xfrm>
            <a:off x="3809880" y="2651040"/>
            <a:ext cx="1568160" cy="673200"/>
            <a:chOff x="3809880" y="2651040"/>
            <a:chExt cx="1568160" cy="673200"/>
          </a:xfrm>
        </p:grpSpPr>
        <p:pic>
          <p:nvPicPr>
            <p:cNvPr id="71" name="Picture 156" descr=""/>
            <p:cNvPicPr/>
            <p:nvPr/>
          </p:nvPicPr>
          <p:blipFill>
            <a:blip r:embed="rId3"/>
            <a:stretch/>
          </p:blipFill>
          <p:spPr>
            <a:xfrm>
              <a:off x="3809880" y="2651040"/>
              <a:ext cx="15681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57"/>
            <p:cNvSpPr/>
            <p:nvPr/>
          </p:nvSpPr>
          <p:spPr>
            <a:xfrm>
              <a:off x="4227480" y="28486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소록 기반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3" name="Group 158"/>
          <p:cNvGrpSpPr/>
          <p:nvPr/>
        </p:nvGrpSpPr>
        <p:grpSpPr>
          <a:xfrm>
            <a:off x="2362320" y="3032280"/>
            <a:ext cx="1447200" cy="672840"/>
            <a:chOff x="2362320" y="3032280"/>
            <a:chExt cx="1447200" cy="672840"/>
          </a:xfrm>
        </p:grpSpPr>
        <p:pic>
          <p:nvPicPr>
            <p:cNvPr id="74" name="Picture 159" descr=""/>
            <p:cNvPicPr/>
            <p:nvPr/>
          </p:nvPicPr>
          <p:blipFill>
            <a:blip r:embed="rId4"/>
            <a:stretch/>
          </p:blipFill>
          <p:spPr>
            <a:xfrm>
              <a:off x="2362320" y="30322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60"/>
            <p:cNvSpPr/>
            <p:nvPr/>
          </p:nvSpPr>
          <p:spPr>
            <a:xfrm>
              <a:off x="2637360" y="3227760"/>
              <a:ext cx="89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쪽지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/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전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61"/>
          <p:cNvGrpSpPr/>
          <p:nvPr/>
        </p:nvGrpSpPr>
        <p:grpSpPr>
          <a:xfrm>
            <a:off x="1447920" y="3946680"/>
            <a:ext cx="1447200" cy="672840"/>
            <a:chOff x="1447920" y="3946680"/>
            <a:chExt cx="1447200" cy="672840"/>
          </a:xfrm>
        </p:grpSpPr>
        <p:pic>
          <p:nvPicPr>
            <p:cNvPr id="77" name="Picture 162" descr=""/>
            <p:cNvPicPr/>
            <p:nvPr/>
          </p:nvPicPr>
          <p:blipFill>
            <a:blip r:embed="rId5"/>
            <a:stretch/>
          </p:blipFill>
          <p:spPr>
            <a:xfrm>
              <a:off x="1447920" y="39466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3"/>
            <p:cNvSpPr/>
            <p:nvPr/>
          </p:nvSpPr>
          <p:spPr>
            <a:xfrm>
              <a:off x="189792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채팅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" name="Group 164"/>
          <p:cNvGrpSpPr/>
          <p:nvPr/>
        </p:nvGrpSpPr>
        <p:grpSpPr>
          <a:xfrm>
            <a:off x="1905120" y="4784760"/>
            <a:ext cx="1449000" cy="673200"/>
            <a:chOff x="1905120" y="4784760"/>
            <a:chExt cx="1449000" cy="673200"/>
          </a:xfrm>
        </p:grpSpPr>
        <p:pic>
          <p:nvPicPr>
            <p:cNvPr id="80" name="Picture 165" descr=""/>
            <p:cNvPicPr/>
            <p:nvPr/>
          </p:nvPicPr>
          <p:blipFill>
            <a:blip r:embed="rId6"/>
            <a:stretch/>
          </p:blipFill>
          <p:spPr>
            <a:xfrm>
              <a:off x="1905120" y="478476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6"/>
            <p:cNvSpPr/>
            <p:nvPr/>
          </p:nvSpPr>
          <p:spPr>
            <a:xfrm>
              <a:off x="2272680" y="4982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음성화상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Group 167"/>
          <p:cNvGrpSpPr/>
          <p:nvPr/>
        </p:nvGrpSpPr>
        <p:grpSpPr>
          <a:xfrm>
            <a:off x="3114720" y="5332320"/>
            <a:ext cx="1449000" cy="673200"/>
            <a:chOff x="3114720" y="5332320"/>
            <a:chExt cx="1449000" cy="673200"/>
          </a:xfrm>
        </p:grpSpPr>
        <p:pic>
          <p:nvPicPr>
            <p:cNvPr id="83" name="Picture 168" descr=""/>
            <p:cNvPicPr/>
            <p:nvPr/>
          </p:nvPicPr>
          <p:blipFill>
            <a:blip r:embed="rId7"/>
            <a:stretch/>
          </p:blipFill>
          <p:spPr>
            <a:xfrm>
              <a:off x="3114720" y="533232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69"/>
            <p:cNvSpPr/>
            <p:nvPr/>
          </p:nvSpPr>
          <p:spPr>
            <a:xfrm>
              <a:off x="3572280" y="5529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원격제어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Oval 170"/>
          <p:cNvSpPr/>
          <p:nvPr/>
        </p:nvSpPr>
        <p:spPr>
          <a:xfrm>
            <a:off x="3733920" y="4098960"/>
            <a:ext cx="17524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e5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해외지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71"/>
          <p:cNvSpPr/>
          <p:nvPr/>
        </p:nvSpPr>
        <p:spPr>
          <a:xfrm>
            <a:off x="304920" y="1889280"/>
            <a:ext cx="8610480" cy="53316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신저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음성화상대화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원격제어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게시판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파일박스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일정공유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회람설문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일알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172"/>
          <p:cNvGrpSpPr/>
          <p:nvPr/>
        </p:nvGrpSpPr>
        <p:grpSpPr>
          <a:xfrm>
            <a:off x="4695840" y="5332320"/>
            <a:ext cx="1447560" cy="673200"/>
            <a:chOff x="4695840" y="5332320"/>
            <a:chExt cx="1447560" cy="673200"/>
          </a:xfrm>
        </p:grpSpPr>
        <p:pic>
          <p:nvPicPr>
            <p:cNvPr id="88" name="Picture 173" descr=""/>
            <p:cNvPicPr/>
            <p:nvPr/>
          </p:nvPicPr>
          <p:blipFill>
            <a:blip r:embed="rId8"/>
            <a:stretch/>
          </p:blipFill>
          <p:spPr>
            <a:xfrm>
              <a:off x="4695840" y="5332320"/>
              <a:ext cx="14475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74"/>
            <p:cNvSpPr/>
            <p:nvPr/>
          </p:nvSpPr>
          <p:spPr>
            <a:xfrm>
              <a:off x="5142240" y="5528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회람설문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0" name="Group 175"/>
          <p:cNvGrpSpPr/>
          <p:nvPr/>
        </p:nvGrpSpPr>
        <p:grpSpPr>
          <a:xfrm>
            <a:off x="5714280" y="4784760"/>
            <a:ext cx="1447920" cy="673200"/>
            <a:chOff x="5714280" y="4784760"/>
            <a:chExt cx="1447920" cy="673200"/>
          </a:xfrm>
        </p:grpSpPr>
        <p:pic>
          <p:nvPicPr>
            <p:cNvPr id="91" name="Picture 176" descr=""/>
            <p:cNvPicPr/>
            <p:nvPr/>
          </p:nvPicPr>
          <p:blipFill>
            <a:blip r:embed="rId9"/>
            <a:stretch/>
          </p:blipFill>
          <p:spPr>
            <a:xfrm>
              <a:off x="5714280" y="4784760"/>
              <a:ext cx="1447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7"/>
            <p:cNvSpPr/>
            <p:nvPr/>
          </p:nvSpPr>
          <p:spPr>
            <a:xfrm>
              <a:off x="5896440" y="4982400"/>
              <a:ext cx="10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일정공유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,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메일알람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Line 178"/>
          <p:cNvSpPr/>
          <p:nvPr/>
        </p:nvSpPr>
        <p:spPr>
          <a:xfrm>
            <a:off x="4572000" y="3336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ine 179"/>
          <p:cNvSpPr/>
          <p:nvPr/>
        </p:nvSpPr>
        <p:spPr>
          <a:xfrm>
            <a:off x="3581280" y="36417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180"/>
          <p:cNvSpPr/>
          <p:nvPr/>
        </p:nvSpPr>
        <p:spPr>
          <a:xfrm>
            <a:off x="2895480" y="43275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Line 181"/>
          <p:cNvSpPr/>
          <p:nvPr/>
        </p:nvSpPr>
        <p:spPr>
          <a:xfrm flipV="1">
            <a:off x="3352680" y="455616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Line 182"/>
          <p:cNvSpPr/>
          <p:nvPr/>
        </p:nvSpPr>
        <p:spPr>
          <a:xfrm flipV="1">
            <a:off x="403848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ine 183"/>
          <p:cNvSpPr/>
          <p:nvPr/>
        </p:nvSpPr>
        <p:spPr>
          <a:xfrm flipH="1" flipV="1">
            <a:off x="480060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184"/>
          <p:cNvSpPr/>
          <p:nvPr/>
        </p:nvSpPr>
        <p:spPr>
          <a:xfrm flipH="1" flipV="1">
            <a:off x="5333760" y="44794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Line 185"/>
          <p:cNvSpPr/>
          <p:nvPr/>
        </p:nvSpPr>
        <p:spPr>
          <a:xfrm flipH="1">
            <a:off x="5590800" y="429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Line 186"/>
          <p:cNvSpPr/>
          <p:nvPr/>
        </p:nvSpPr>
        <p:spPr>
          <a:xfrm flipH="1">
            <a:off x="4952880" y="3641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2" descr=""/>
          <p:cNvPicPr/>
          <p:nvPr/>
        </p:nvPicPr>
        <p:blipFill>
          <a:blip r:embed="rId1"/>
          <a:stretch/>
        </p:blipFill>
        <p:spPr>
          <a:xfrm>
            <a:off x="826920" y="1690560"/>
            <a:ext cx="5553360" cy="346716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39640" y="96984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장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443640" y="1700280"/>
            <a:ext cx="2449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버튼 클릭 시 프로그램의 확장 모드가 표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의 상단에 표시되며 각 메뉴를 클릭 시 각 메뉴의 창을 표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754200" y="17146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2411280" y="1714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 검색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사용자 버튼을 클릭하여 주소록에 등록 된 사용자들에게 문자전송을 하며 또한 사용자 선택 창을 이용해 등록 된 사용자와 그룹을 검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580000" y="2614680"/>
            <a:ext cx="3384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입력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입력 후 검색버튼을 누르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포함하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사용자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를 사용하는 유저를 각 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로 트리 형태로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선택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한 사용자를 리스트 형태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 버튼 및 해제 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 또는 해제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및 닫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버튼으로 선택을 완료 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 버튼으로 입력을 취소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4" name="Group 18"/>
          <p:cNvGrpSpPr/>
          <p:nvPr/>
        </p:nvGrpSpPr>
        <p:grpSpPr>
          <a:xfrm>
            <a:off x="539640" y="2349360"/>
            <a:ext cx="4927680" cy="3851640"/>
            <a:chOff x="539640" y="2349360"/>
            <a:chExt cx="4927680" cy="3851640"/>
          </a:xfrm>
        </p:grpSpPr>
        <p:pic>
          <p:nvPicPr>
            <p:cNvPr id="405" name="Picture 15" descr=""/>
            <p:cNvPicPr/>
            <p:nvPr/>
          </p:nvPicPr>
          <p:blipFill>
            <a:blip r:embed="rId1"/>
            <a:stretch/>
          </p:blipFill>
          <p:spPr>
            <a:xfrm>
              <a:off x="1547640" y="2852640"/>
              <a:ext cx="391968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6"/>
            <p:cNvSpPr/>
            <p:nvPr/>
          </p:nvSpPr>
          <p:spPr>
            <a:xfrm>
              <a:off x="4427640" y="4076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 Box 7"/>
            <p:cNvSpPr/>
            <p:nvPr/>
          </p:nvSpPr>
          <p:spPr>
            <a:xfrm>
              <a:off x="3419640" y="3166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2627280" y="36590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3517920" y="45943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AutoShape 13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>
              <a:off x="4221000" y="59245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696960" y="3213000"/>
              <a:ext cx="190440" cy="300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1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손쉽게 그룹을 생성하고 그룹 별로 수신자를 정의할 수 있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렇게 입력한 주소록은 문자전송 시 쉽게 검색 또는 그룹 별로 추가할 수 있도록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6" name="Group 23"/>
          <p:cNvGrpSpPr/>
          <p:nvPr/>
        </p:nvGrpSpPr>
        <p:grpSpPr>
          <a:xfrm>
            <a:off x="539640" y="2349360"/>
            <a:ext cx="4938840" cy="3816360"/>
            <a:chOff x="539640" y="2349360"/>
            <a:chExt cx="4938840" cy="3816360"/>
          </a:xfrm>
        </p:grpSpPr>
        <p:grpSp>
          <p:nvGrpSpPr>
            <p:cNvPr id="417" name="Group 15"/>
            <p:cNvGrpSpPr/>
            <p:nvPr/>
          </p:nvGrpSpPr>
          <p:grpSpPr>
            <a:xfrm>
              <a:off x="1546200" y="2852640"/>
              <a:ext cx="3932280" cy="3313080"/>
              <a:chOff x="1546200" y="2852640"/>
              <a:chExt cx="3932280" cy="3313080"/>
            </a:xfrm>
          </p:grpSpPr>
          <p:pic>
            <p:nvPicPr>
              <p:cNvPr id="418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6200" y="2852640"/>
                <a:ext cx="393228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7"/>
              <p:cNvSpPr/>
              <p:nvPr/>
            </p:nvSpPr>
            <p:spPr>
              <a:xfrm>
                <a:off x="5166000" y="5387760"/>
                <a:ext cx="31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Text Box 18"/>
              <p:cNvSpPr/>
              <p:nvPr/>
            </p:nvSpPr>
            <p:spPr>
              <a:xfrm>
                <a:off x="4731480" y="3415320"/>
                <a:ext cx="24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Text Box 19"/>
              <p:cNvSpPr/>
              <p:nvPr/>
            </p:nvSpPr>
            <p:spPr>
              <a:xfrm>
                <a:off x="2857320" y="5387760"/>
                <a:ext cx="25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Text Box 20"/>
              <p:cNvSpPr/>
              <p:nvPr/>
            </p:nvSpPr>
            <p:spPr>
              <a:xfrm>
                <a:off x="4706640" y="5636880"/>
                <a:ext cx="31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④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23" name="Picture 10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AutoShape 11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925560" y="322596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6" name="Text Box 22"/>
          <p:cNvSpPr/>
          <p:nvPr/>
        </p:nvSpPr>
        <p:spPr>
          <a:xfrm>
            <a:off x="5580000" y="2614680"/>
            <a:ext cx="3384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트리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을 사용자가 보기 쉽게 트리형태로 표현하며 그룹을 클릭 시 그룹 원을 표시 또는 비표 시 형태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리스트에 넣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 선택한 그룹 또는 그룹 원을 수신리스트에 추가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서 검색 어를 포함하는 곳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c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이동 시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서브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버튼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5580000" y="2205000"/>
            <a:ext cx="3384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사용자 클릭 시 외부 사용자를 추가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수정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사용자 삭제 클릭 시 또는 팝업 메뉴의 사용자 삭제 클릭 시 사용자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0" name="Group 41"/>
          <p:cNvGrpSpPr/>
          <p:nvPr/>
        </p:nvGrpSpPr>
        <p:grpSpPr>
          <a:xfrm>
            <a:off x="461880" y="1857240"/>
            <a:ext cx="4759560" cy="4438800"/>
            <a:chOff x="461880" y="1857240"/>
            <a:chExt cx="4759560" cy="4438800"/>
          </a:xfrm>
        </p:grpSpPr>
        <p:pic>
          <p:nvPicPr>
            <p:cNvPr id="431" name="Picture 28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2160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0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60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6" descr=""/>
            <p:cNvPicPr/>
            <p:nvPr/>
          </p:nvPicPr>
          <p:blipFill>
            <a:blip r:embed="rId3"/>
            <a:stretch/>
          </p:blipFill>
          <p:spPr>
            <a:xfrm>
              <a:off x="539640" y="4581360"/>
              <a:ext cx="37339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"/>
            <p:cNvPicPr/>
            <p:nvPr/>
          </p:nvPicPr>
          <p:blipFill>
            <a:blip r:embed="rId4"/>
            <a:stretch/>
          </p:blipFill>
          <p:spPr>
            <a:xfrm>
              <a:off x="147636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Line 33"/>
            <p:cNvSpPr/>
            <p:nvPr/>
          </p:nvSpPr>
          <p:spPr>
            <a:xfrm flipV="1">
              <a:off x="2050920" y="3429000"/>
              <a:ext cx="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 flipV="1">
              <a:off x="2556000" y="3141720"/>
              <a:ext cx="503280" cy="57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 flipH="1">
              <a:off x="2411280" y="4076640"/>
              <a:ext cx="432000" cy="576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Text Box 37"/>
            <p:cNvSpPr/>
            <p:nvPr/>
          </p:nvSpPr>
          <p:spPr>
            <a:xfrm>
              <a:off x="480960" y="4292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Text Box 38"/>
            <p:cNvSpPr/>
            <p:nvPr/>
          </p:nvSpPr>
          <p:spPr>
            <a:xfrm>
              <a:off x="46188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Text Box 39"/>
            <p:cNvSpPr/>
            <p:nvPr/>
          </p:nvSpPr>
          <p:spPr>
            <a:xfrm>
              <a:off x="2987640" y="18572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580000" y="2205000"/>
            <a:ext cx="3384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그룹 추가 클릭 시 새로운 그룹을 생성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 된 다른 그룹명과 중복 사용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원 추가 및 변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그룹삭제 클릭시 또는 팝업 메뉴에서 그룹삭제 클릭시 그룹을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4" name="Group 20"/>
          <p:cNvGrpSpPr/>
          <p:nvPr/>
        </p:nvGrpSpPr>
        <p:grpSpPr>
          <a:xfrm>
            <a:off x="500040" y="1878120"/>
            <a:ext cx="4667400" cy="4694040"/>
            <a:chOff x="500040" y="1878120"/>
            <a:chExt cx="4667400" cy="4694040"/>
          </a:xfrm>
        </p:grpSpPr>
        <p:pic>
          <p:nvPicPr>
            <p:cNvPr id="445" name="Picture 19" descr=""/>
            <p:cNvPicPr/>
            <p:nvPr/>
          </p:nvPicPr>
          <p:blipFill>
            <a:blip r:embed="rId1"/>
            <a:stretch/>
          </p:blipFill>
          <p:spPr>
            <a:xfrm>
              <a:off x="539640" y="4724280"/>
              <a:ext cx="37530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7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0816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8" descr=""/>
            <p:cNvPicPr/>
            <p:nvPr/>
          </p:nvPicPr>
          <p:blipFill>
            <a:blip r:embed="rId3"/>
            <a:stretch/>
          </p:blipFill>
          <p:spPr>
            <a:xfrm>
              <a:off x="550800" y="1916280"/>
              <a:ext cx="194472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9"/>
            <p:cNvSpPr/>
            <p:nvPr/>
          </p:nvSpPr>
          <p:spPr>
            <a:xfrm>
              <a:off x="539640" y="46674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50004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3013200" y="18781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51" name="Picture 15" descr=""/>
            <p:cNvPicPr/>
            <p:nvPr/>
          </p:nvPicPr>
          <p:blipFill>
            <a:blip r:embed="rId4"/>
            <a:stretch/>
          </p:blipFill>
          <p:spPr>
            <a:xfrm>
              <a:off x="53964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16"/>
            <p:cNvSpPr/>
            <p:nvPr/>
          </p:nvSpPr>
          <p:spPr>
            <a:xfrm flipV="1">
              <a:off x="2386080" y="299700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 flipH="1">
              <a:off x="2626920" y="4076640"/>
              <a:ext cx="57636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 flipV="1">
              <a:off x="2843280" y="3429000"/>
              <a:ext cx="28872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7" name="Group 18"/>
          <p:cNvGrpSpPr/>
          <p:nvPr/>
        </p:nvGrpSpPr>
        <p:grpSpPr>
          <a:xfrm>
            <a:off x="611280" y="1916280"/>
            <a:ext cx="4824360" cy="3744720"/>
            <a:chOff x="611280" y="1916280"/>
            <a:chExt cx="4824360" cy="3744720"/>
          </a:xfrm>
        </p:grpSpPr>
        <p:sp>
          <p:nvSpPr>
            <p:cNvPr id="458" name="Text Box 9"/>
            <p:cNvSpPr/>
            <p:nvPr/>
          </p:nvSpPr>
          <p:spPr>
            <a:xfrm>
              <a:off x="339264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Text Box 10"/>
            <p:cNvSpPr/>
            <p:nvPr/>
          </p:nvSpPr>
          <p:spPr>
            <a:xfrm>
              <a:off x="379116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0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5295960"/>
              <a:ext cx="3744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Line 12"/>
            <p:cNvSpPr/>
            <p:nvPr/>
          </p:nvSpPr>
          <p:spPr>
            <a:xfrm flipV="1">
              <a:off x="370692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2" name="Picture 15" descr=""/>
            <p:cNvPicPr/>
            <p:nvPr/>
          </p:nvPicPr>
          <p:blipFill>
            <a:blip r:embed="rId2"/>
            <a:stretch/>
          </p:blipFill>
          <p:spPr>
            <a:xfrm>
              <a:off x="611280" y="1916280"/>
              <a:ext cx="4824360" cy="28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Line 16"/>
            <p:cNvSpPr/>
            <p:nvPr/>
          </p:nvSpPr>
          <p:spPr>
            <a:xfrm flipV="1">
              <a:off x="410040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4" name="Text Box 17"/>
          <p:cNvSpPr/>
          <p:nvPr/>
        </p:nvSpPr>
        <p:spPr>
          <a:xfrm>
            <a:off x="5580000" y="2205000"/>
            <a:ext cx="3168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주소록 불러오기 클릭시 주소록 저장하기로 저장한 사용자와 그룹 정보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주소록 저장하기 클릭 시 현재 문자전송 주소록에 등록 된 사용자와 그룹 정보가 파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형태로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로 저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539640" y="9698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모티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시지 작성 시 특수 문자 및 재미있는 이모티콘을 제공하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 후 클릭 하시면 메시지 입력 창에 자동 입력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7" name="Group 20"/>
          <p:cNvGrpSpPr/>
          <p:nvPr/>
        </p:nvGrpSpPr>
        <p:grpSpPr>
          <a:xfrm>
            <a:off x="539640" y="2276640"/>
            <a:ext cx="4938840" cy="3816360"/>
            <a:chOff x="539640" y="2276640"/>
            <a:chExt cx="4938840" cy="3816360"/>
          </a:xfrm>
        </p:grpSpPr>
        <p:pic>
          <p:nvPicPr>
            <p:cNvPr id="468" name="Picture 19" descr=""/>
            <p:cNvPicPr/>
            <p:nvPr/>
          </p:nvPicPr>
          <p:blipFill>
            <a:blip r:embed="rId1"/>
            <a:stretch/>
          </p:blipFill>
          <p:spPr>
            <a:xfrm>
              <a:off x="1506600" y="2779920"/>
              <a:ext cx="397188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AutoShape 15"/>
            <p:cNvSpPr/>
            <p:nvPr/>
          </p:nvSpPr>
          <p:spPr>
            <a:xfrm rot="20514000">
              <a:off x="826920" y="479628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1162080" y="315324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낸 메시지 함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 메시지들에 대한 정보를 나타내는 확장 창 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5580000" y="2614680"/>
            <a:ext cx="33847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리스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의 대상 및 일시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 클릭 시 메시지를 입력 창으로 자동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메시지 선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선택버튼은 현재 발신 메시지의 리스트의 선택 대상의 메시지 내용을 입력 창에 자동으로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선택 대상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함을 최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539640" y="2276640"/>
            <a:ext cx="4973760" cy="3816360"/>
            <a:chOff x="539640" y="2276640"/>
            <a:chExt cx="4973760" cy="3816360"/>
          </a:xfrm>
        </p:grpSpPr>
        <p:pic>
          <p:nvPicPr>
            <p:cNvPr id="476" name="Picture 19" descr=""/>
            <p:cNvPicPr/>
            <p:nvPr/>
          </p:nvPicPr>
          <p:blipFill>
            <a:blip r:embed="rId1"/>
            <a:stretch/>
          </p:blipFill>
          <p:spPr>
            <a:xfrm>
              <a:off x="1547640" y="2779560"/>
              <a:ext cx="3930840" cy="33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0"/>
            <p:cNvSpPr/>
            <p:nvPr/>
          </p:nvSpPr>
          <p:spPr>
            <a:xfrm>
              <a:off x="1403280" y="55879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3132000" y="39322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Text Box 12"/>
            <p:cNvSpPr/>
            <p:nvPr/>
          </p:nvSpPr>
          <p:spPr>
            <a:xfrm>
              <a:off x="4500720" y="53132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0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5"/>
            <p:cNvSpPr/>
            <p:nvPr/>
          </p:nvSpPr>
          <p:spPr>
            <a:xfrm rot="20514000">
              <a:off x="826920" y="4795920"/>
              <a:ext cx="432000" cy="93672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720"/>
                <a:gd name="textAreaBottom" fmla="*/ 7228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1378080" y="315288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3635280" y="56023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Rectangle 36"/>
            <p:cNvSpPr/>
            <p:nvPr/>
          </p:nvSpPr>
          <p:spPr>
            <a:xfrm>
              <a:off x="5195520" y="55897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539640" y="9698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괄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여러 명을 대상으로 전송을 할 때 사용하며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각의 메시지 내용을 다르게 보낼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5249880" y="1897200"/>
            <a:ext cx="371484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클릭 시 검색 팝업을 띄워 쉽게 검색 입력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표시할 송신번호로 기본으로 현재 사용자 번호가 자동으로 입력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전달할 메시지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정보표시바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의 셀 위치 정보 및 저장과 불러오기 시 진행 상태를 나타냅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작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일괄발송 데이터를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팝업을 띄워 수신자를 쉽게 입력할 수 있도록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보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성한 내용을 일괄발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에 저장한 일괄발송을  불러오기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데이터를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8" name="Group 28"/>
          <p:cNvGrpSpPr/>
          <p:nvPr/>
        </p:nvGrpSpPr>
        <p:grpSpPr>
          <a:xfrm>
            <a:off x="826920" y="2060640"/>
            <a:ext cx="4178520" cy="4610160"/>
            <a:chOff x="826920" y="2060640"/>
            <a:chExt cx="4178520" cy="4610160"/>
          </a:xfrm>
        </p:grpSpPr>
        <p:pic>
          <p:nvPicPr>
            <p:cNvPr id="489" name="Picture 19" descr="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417672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10"/>
            <p:cNvSpPr/>
            <p:nvPr/>
          </p:nvSpPr>
          <p:spPr>
            <a:xfrm>
              <a:off x="3478320" y="2989440"/>
              <a:ext cx="3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Text Box 11"/>
            <p:cNvSpPr/>
            <p:nvPr/>
          </p:nvSpPr>
          <p:spPr>
            <a:xfrm>
              <a:off x="115092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Text Box 12"/>
            <p:cNvSpPr/>
            <p:nvPr/>
          </p:nvSpPr>
          <p:spPr>
            <a:xfrm>
              <a:off x="199224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Text Box 13"/>
            <p:cNvSpPr/>
            <p:nvPr/>
          </p:nvSpPr>
          <p:spPr>
            <a:xfrm>
              <a:off x="4383000" y="442584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94896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Rectangle 20"/>
            <p:cNvSpPr/>
            <p:nvPr/>
          </p:nvSpPr>
          <p:spPr>
            <a:xfrm>
              <a:off x="186660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321444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052520" y="49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Rectangle 23"/>
            <p:cNvSpPr/>
            <p:nvPr/>
          </p:nvSpPr>
          <p:spPr>
            <a:xfrm>
              <a:off x="446400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9" name="Picture 25" descr=""/>
            <p:cNvPicPr/>
            <p:nvPr/>
          </p:nvPicPr>
          <p:blipFill>
            <a:blip r:embed="rId2"/>
            <a:stretch/>
          </p:blipFill>
          <p:spPr>
            <a:xfrm>
              <a:off x="1835280" y="5300640"/>
              <a:ext cx="230508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utoShape 26"/>
            <p:cNvSpPr/>
            <p:nvPr/>
          </p:nvSpPr>
          <p:spPr>
            <a:xfrm>
              <a:off x="4284720" y="5229360"/>
              <a:ext cx="720720" cy="100800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166680 h 1008000"/>
                <a:gd name="textAreaBottom" fmla="*/ 779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2489517"/>
                  <a:lnTo>
                    <a:pt x="7565" y="21148"/>
                  </a:lnTo>
                  <a:lnTo>
                    <a:pt x="0" y="17280"/>
                  </a:lnTo>
                  <a:lnTo>
                    <a:pt x="7565" y="12508"/>
                  </a:lnTo>
                  <a:lnTo>
                    <a:pt x="7565" y="13835"/>
                  </a:lnTo>
                  <a:arcTo wR="21600" hR="7144" stAng="2489517" swAng="-1968915"/>
                  <a:lnTo>
                    <a:pt x="19613" y="10137"/>
                  </a:lnTo>
                  <a:arcTo wR="21600" hR="7144" stAng="-520602" swAng="-4879398"/>
                  <a:close/>
                </a:path>
                <a:path fill="darkenLess"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-520602"/>
                  <a:lnTo>
                    <a:pt x="19613" y="10137"/>
                  </a:lnTo>
                  <a:arcTo wR="21600" hR="7144" stAng="-520602" swAng="-487939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14158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는 웹디스크나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T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각종 문서나 파일들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그룹별 또는 개인별로 할당된 파일박스에 자유롭게 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539640" y="10540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개요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1116000" y="2131920"/>
            <a:ext cx="6696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9800" y="24768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면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228"/>
          <p:cNvSpPr/>
          <p:nvPr/>
        </p:nvSpPr>
        <p:spPr>
          <a:xfrm>
            <a:off x="4419720" y="2593800"/>
            <a:ext cx="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229"/>
          <p:cNvSpPr/>
          <p:nvPr/>
        </p:nvSpPr>
        <p:spPr>
          <a:xfrm flipV="1">
            <a:off x="3048120" y="2441160"/>
            <a:ext cx="304776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230"/>
          <p:cNvSpPr/>
          <p:nvPr/>
        </p:nvSpPr>
        <p:spPr>
          <a:xfrm>
            <a:off x="2819520" y="2289240"/>
            <a:ext cx="3657600" cy="297180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231"/>
          <p:cNvSpPr/>
          <p:nvPr/>
        </p:nvSpPr>
        <p:spPr>
          <a:xfrm>
            <a:off x="41911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파일박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232"/>
          <p:cNvSpPr/>
          <p:nvPr/>
        </p:nvSpPr>
        <p:spPr>
          <a:xfrm>
            <a:off x="655164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일정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33"/>
          <p:cNvSpPr/>
          <p:nvPr/>
        </p:nvSpPr>
        <p:spPr>
          <a:xfrm>
            <a:off x="14479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이메일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234"/>
          <p:cNvSpPr/>
          <p:nvPr/>
        </p:nvSpPr>
        <p:spPr>
          <a:xfrm>
            <a:off x="3808440" y="213660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채팅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35"/>
          <p:cNvSpPr/>
          <p:nvPr/>
        </p:nvSpPr>
        <p:spPr>
          <a:xfrm>
            <a:off x="7238880" y="765000"/>
            <a:ext cx="15242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용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임의생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236"/>
          <p:cNvSpPr/>
          <p:nvPr/>
        </p:nvSpPr>
        <p:spPr>
          <a:xfrm>
            <a:off x="4343400" y="114624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중채팅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용저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237"/>
          <p:cNvSpPr/>
          <p:nvPr/>
        </p:nvSpPr>
        <p:spPr>
          <a:xfrm>
            <a:off x="228600" y="129852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스턴트 메시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신확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238"/>
          <p:cNvSpPr/>
          <p:nvPr/>
        </p:nvSpPr>
        <p:spPr>
          <a:xfrm>
            <a:off x="380880" y="518472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 익스프레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연동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239"/>
          <p:cNvSpPr/>
          <p:nvPr/>
        </p:nvSpPr>
        <p:spPr>
          <a:xfrm>
            <a:off x="5181480" y="526104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240"/>
          <p:cNvSpPr/>
          <p:nvPr/>
        </p:nvSpPr>
        <p:spPr>
          <a:xfrm>
            <a:off x="7467480" y="503244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일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공유전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ine 242"/>
          <p:cNvSpPr/>
          <p:nvPr/>
        </p:nvSpPr>
        <p:spPr>
          <a:xfrm>
            <a:off x="2590920" y="4041720"/>
            <a:ext cx="3809880" cy="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43"/>
          <p:cNvSpPr/>
          <p:nvPr/>
        </p:nvSpPr>
        <p:spPr>
          <a:xfrm>
            <a:off x="6477120" y="4194000"/>
            <a:ext cx="13716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온라인 회람설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244"/>
          <p:cNvSpPr/>
          <p:nvPr/>
        </p:nvSpPr>
        <p:spPr>
          <a:xfrm>
            <a:off x="304920" y="4564080"/>
            <a:ext cx="20574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음성화상 및 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245" descr="전체background"/>
          <p:cNvPicPr/>
          <p:nvPr/>
        </p:nvPicPr>
        <p:blipFill>
          <a:blip r:embed="rId1"/>
          <a:stretch/>
        </p:blipFill>
        <p:spPr>
          <a:xfrm>
            <a:off x="3657600" y="2998800"/>
            <a:ext cx="14479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6"/>
          <p:cNvSpPr/>
          <p:nvPr/>
        </p:nvSpPr>
        <p:spPr>
          <a:xfrm>
            <a:off x="76320" y="395136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음성화상 및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247"/>
          <p:cNvSpPr/>
          <p:nvPr/>
        </p:nvSpPr>
        <p:spPr>
          <a:xfrm>
            <a:off x="7315200" y="33559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작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취합 및 통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248"/>
          <p:cNvSpPr/>
          <p:nvPr/>
        </p:nvSpPr>
        <p:spPr>
          <a:xfrm>
            <a:off x="1219320" y="22892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쪽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249"/>
          <p:cNvSpPr/>
          <p:nvPr/>
        </p:nvSpPr>
        <p:spPr>
          <a:xfrm>
            <a:off x="6248520" y="2136600"/>
            <a:ext cx="14396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실시간 공지게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250" descr="000000"/>
          <p:cNvPicPr/>
          <p:nvPr/>
        </p:nvPicPr>
        <p:blipFill>
          <a:blip r:embed="rId2"/>
          <a:stretch/>
        </p:blipFill>
        <p:spPr>
          <a:xfrm>
            <a:off x="1523880" y="13748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1" descr="000000"/>
          <p:cNvPicPr/>
          <p:nvPr/>
        </p:nvPicPr>
        <p:blipFill>
          <a:blip r:embed="rId3"/>
          <a:stretch/>
        </p:blipFill>
        <p:spPr>
          <a:xfrm>
            <a:off x="3657600" y="11462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2" descr="000000"/>
          <p:cNvPicPr/>
          <p:nvPr/>
        </p:nvPicPr>
        <p:blipFill>
          <a:blip r:embed="rId4"/>
          <a:stretch/>
        </p:blipFill>
        <p:spPr>
          <a:xfrm>
            <a:off x="6477120" y="1146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3" descr="000000"/>
          <p:cNvPicPr/>
          <p:nvPr/>
        </p:nvPicPr>
        <p:blipFill>
          <a:blip r:embed="rId5"/>
          <a:stretch/>
        </p:blipFill>
        <p:spPr>
          <a:xfrm>
            <a:off x="1476360" y="367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4" descr="000000"/>
          <p:cNvPicPr/>
          <p:nvPr/>
        </p:nvPicPr>
        <p:blipFill>
          <a:blip r:embed="rId6"/>
          <a:stretch/>
        </p:blipFill>
        <p:spPr>
          <a:xfrm>
            <a:off x="182880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5" descr="000000"/>
          <p:cNvPicPr/>
          <p:nvPr/>
        </p:nvPicPr>
        <p:blipFill>
          <a:blip r:embed="rId7"/>
          <a:stretch/>
        </p:blipFill>
        <p:spPr>
          <a:xfrm>
            <a:off x="449568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6" descr="000000"/>
          <p:cNvPicPr/>
          <p:nvPr/>
        </p:nvPicPr>
        <p:blipFill>
          <a:blip r:embed="rId8"/>
          <a:stretch/>
        </p:blipFill>
        <p:spPr>
          <a:xfrm>
            <a:off x="6705720" y="50324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7" descr="000000"/>
          <p:cNvPicPr/>
          <p:nvPr/>
        </p:nvPicPr>
        <p:blipFill>
          <a:blip r:embed="rId9"/>
          <a:stretch/>
        </p:blipFill>
        <p:spPr>
          <a:xfrm>
            <a:off x="6553080" y="3279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Line 258"/>
          <p:cNvSpPr/>
          <p:nvPr/>
        </p:nvSpPr>
        <p:spPr>
          <a:xfrm>
            <a:off x="2195640" y="3208320"/>
            <a:ext cx="1439640" cy="43164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259" descr="000000"/>
          <p:cNvPicPr/>
          <p:nvPr/>
        </p:nvPicPr>
        <p:blipFill>
          <a:blip r:embed="rId10"/>
          <a:stretch/>
        </p:blipFill>
        <p:spPr>
          <a:xfrm>
            <a:off x="1506600" y="26319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60"/>
          <p:cNvSpPr/>
          <p:nvPr/>
        </p:nvSpPr>
        <p:spPr>
          <a:xfrm>
            <a:off x="324000" y="3411360"/>
            <a:ext cx="107928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SMS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261"/>
          <p:cNvSpPr/>
          <p:nvPr/>
        </p:nvSpPr>
        <p:spPr>
          <a:xfrm>
            <a:off x="311040" y="2711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및 권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옵션기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1619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권한 체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38080" y="2000160"/>
            <a:ext cx="76201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의 폴더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파일박스에 폴더 다운로드 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는 할 수 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을 다운로드만 할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33520" y="105264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에서는 다음과 같은 사용자 권한체계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운영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단 개인 파일박스에서는 개인이 모든 권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폴더생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다운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을 가지고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763560" y="1778040"/>
            <a:ext cx="51055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개수에 상관없이 올릴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전체 파일박스 용량 범위 내에서 업로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파일박스 용량 변경은 관리자에게 필요 시 요청하시길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파일자료는 가급적 사용자제를 부탁 드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4960" y="10857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업로드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839880" y="1397160"/>
            <a:ext cx="5562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파일들을 특정 폴더에 올릴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839880" y="3478320"/>
            <a:ext cx="487656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메인 화면 왼쪽에 있는 파일박스 아이콘          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1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같이 파일박스 화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2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업로드를 원하는 파일박스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3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업로드 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4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 메뉴를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서버의 지정된 폴더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마우스로 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서버폴더로 옮겨놓으면 업로드가 이루어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8085240" y="191628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8175600" y="34894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8175600" y="5229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7405560" y="66135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1" descr="49"/>
          <p:cNvPicPr/>
          <p:nvPr/>
        </p:nvPicPr>
        <p:blipFill>
          <a:blip r:embed="rId1"/>
          <a:stretch/>
        </p:blipFill>
        <p:spPr>
          <a:xfrm>
            <a:off x="4643280" y="3429000"/>
            <a:ext cx="373320" cy="399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3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671920" cy="1151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73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5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78400" cy="1440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6" descr=""/>
          <p:cNvPicPr/>
          <p:nvPr/>
        </p:nvPicPr>
        <p:blipFill>
          <a:blip r:embed="rId5"/>
          <a:stretch/>
        </p:blipFill>
        <p:spPr>
          <a:xfrm>
            <a:off x="6227640" y="5516640"/>
            <a:ext cx="2686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844560" y="1382760"/>
            <a:ext cx="5867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로 파일들을 다운로드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57200" y="1752480"/>
            <a:ext cx="48769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파일 폴더에서 원하는 파일을 선택한 후 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또는 상단 버튼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저장할 폴더를 지정하면 다운로드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간편 다운로드 방법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바로 다운로드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7" name="Picture 9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35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964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검색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844560" y="1363680"/>
            <a:ext cx="662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원하는 파일을 검색하여 찾을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57200" y="1752480"/>
            <a:ext cx="4495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버튼메뉴에서                  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검색 창에서 원하는 파일명을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서버의 부하 최소화를 위해 모든 파일 찾기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*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는 검색을 하지 못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하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2" name="Picture 8" descr="51"/>
          <p:cNvPicPr/>
          <p:nvPr/>
        </p:nvPicPr>
        <p:blipFill>
          <a:blip r:embed="rId1"/>
          <a:stretch/>
        </p:blipFill>
        <p:spPr>
          <a:xfrm>
            <a:off x="2340000" y="1773360"/>
            <a:ext cx="649440" cy="541080"/>
          </a:xfrm>
          <a:prstGeom prst="rect">
            <a:avLst/>
          </a:prstGeom>
          <a:ln w="0">
            <a:noFill/>
          </a:ln>
        </p:spPr>
      </p:pic>
      <p:pic>
        <p:nvPicPr>
          <p:cNvPr id="533" name="그림 7" descr="파일박스 검색.jpg"/>
          <p:cNvPicPr/>
          <p:nvPr/>
        </p:nvPicPr>
        <p:blipFill>
          <a:blip r:embed="rId2"/>
          <a:stretch/>
        </p:blipFill>
        <p:spPr>
          <a:xfrm>
            <a:off x="4859280" y="1773360"/>
            <a:ext cx="3824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3964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폴더만들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844560" y="137160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 권한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여 받은 사용자의 경우에는 폴더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생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57200" y="1905120"/>
            <a:ext cx="48769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만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박스 리스트에서 원하는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팝업을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폴더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폴더 명을 입력하면 폴더가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이름 바꾸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상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이름을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삭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오른쪽 팝업 메뉴를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삭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5337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이름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844560" y="138276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나 쓰기 권한을 가진 사용자는 파일이름을 바꾸거나 삭제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57200" y="2120760"/>
            <a:ext cx="4876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이름 변경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단 메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이름을 바꿀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삭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오른쪽 마우스 팝업메뉴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배너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뉴스티커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539640" y="105264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뉴스티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능은 중요 뉴스 및 공지사항을 알람 형식으로 클라이언트 하단에 알람 형식으로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 할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708360" y="3645000"/>
            <a:ext cx="511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Times New Roman"/>
              </a:rPr>
              <a:t>※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라이언트 창 하단에 중요 공지나 뉴스의 제목이 뉴스티커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나타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자료의 제목에 마우스를 가져다 놓으면 제목이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빨간색으로 변하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릭을 하시면 원하시는 자료로 바로 연결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6" name="그림 8" descr="배너.jpg"/>
          <p:cNvPicPr/>
          <p:nvPr/>
        </p:nvPicPr>
        <p:blipFill>
          <a:blip r:embed="rId1"/>
          <a:stretch/>
        </p:blipFill>
        <p:spPr>
          <a:xfrm>
            <a:off x="611280" y="1700280"/>
            <a:ext cx="2873160" cy="453708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9" descr="배너2.jpg"/>
          <p:cNvPicPr/>
          <p:nvPr/>
        </p:nvPicPr>
        <p:blipFill>
          <a:blip r:embed="rId2"/>
          <a:stretch/>
        </p:blipFill>
        <p:spPr>
          <a:xfrm>
            <a:off x="3995640" y="2492280"/>
            <a:ext cx="3816360" cy="90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611280" y="90792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539640" y="177336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 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1" name="그림 9" descr="환경설정 메일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0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533520" y="1600200"/>
            <a:ext cx="48765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수신 알람팝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 수신 시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팝업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cro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내용 보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내용을 확인하려면 상단의 제목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을 클릭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본 메일 클라이언트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utlook Express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을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3496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수신 알람  및 내용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5" name="Picture 9" descr="55"/>
          <p:cNvPicPr/>
          <p:nvPr/>
        </p:nvPicPr>
        <p:blipFill>
          <a:blip r:embed="rId1"/>
          <a:stretch/>
        </p:blipFill>
        <p:spPr>
          <a:xfrm>
            <a:off x="5867280" y="12952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68360" y="7650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공유에서는 개인일정을 작성관리 할 수 있으며 동시에 다른 사람들에게 일정전송을 통해 공유 및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를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33520" y="2438280"/>
            <a:ext cx="388620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메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그림에서 원하는 일자를 선택한 후 오른쪽 마우스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제목과 수신인을 지정하여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* </a:t>
            </a:r>
            <a:r>
              <a:rPr b="1" lang="ko-KR" sz="1100" spc="-1" strike="noStrike">
                <a:solidFill>
                  <a:srgbClr val="ff0000"/>
                </a:solidFill>
                <a:latin typeface="굴림"/>
              </a:rPr>
              <a:t>수신인 추가 없이 저장하면 개인일정이 됩니다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57200" y="19810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작성 및 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0" name="Picture 11" descr="56"/>
          <p:cNvPicPr/>
          <p:nvPr/>
        </p:nvPicPr>
        <p:blipFill>
          <a:blip r:embed="rId1"/>
          <a:stretch/>
        </p:blipFill>
        <p:spPr>
          <a:xfrm>
            <a:off x="2438280" y="243828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61" name="그림 10" descr="일정관리.jpg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그림 11" descr="일정추가.jpg"/>
          <p:cNvPicPr/>
          <p:nvPr/>
        </p:nvPicPr>
        <p:blipFill>
          <a:blip r:embed="rId3"/>
          <a:stretch/>
        </p:blipFill>
        <p:spPr>
          <a:xfrm>
            <a:off x="4427640" y="4221000"/>
            <a:ext cx="446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62"/>
          <p:cNvSpPr/>
          <p:nvPr/>
        </p:nvSpPr>
        <p:spPr>
          <a:xfrm>
            <a:off x="200160" y="247680"/>
            <a:ext cx="53085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시스템 요구 사양 및 프로그램 설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064"/>
          <p:cNvSpPr/>
          <p:nvPr/>
        </p:nvSpPr>
        <p:spPr>
          <a:xfrm>
            <a:off x="799920" y="78588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요구사양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1078"/>
          <p:cNvSpPr/>
          <p:nvPr/>
        </p:nvSpPr>
        <p:spPr>
          <a:xfrm>
            <a:off x="760680" y="2454120"/>
            <a:ext cx="12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설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1079"/>
          <p:cNvSpPr/>
          <p:nvPr/>
        </p:nvSpPr>
        <p:spPr>
          <a:xfrm>
            <a:off x="762120" y="2911320"/>
            <a:ext cx="39621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배포된 일반 사용자용 설치파일을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1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2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파일들이 설치될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3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추가사항을 선택하십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4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설치준비완료 메시지가 나타나면 설치를 눌러주시면 설치작업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치가 완료되고 메신저를 실행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-5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메신저 서버 접속 정보를 입력해야 하는데 이 정보들은 고객사의 메신저 서버 관리자에게 문의하여 기본 접속 정보를 전달 받아 입력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93"/>
          <p:cNvSpPr/>
          <p:nvPr/>
        </p:nvSpPr>
        <p:spPr>
          <a:xfrm>
            <a:off x="755640" y="1362240"/>
            <a:ext cx="4572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 : Windows 2000/ME/2000/XP/7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128M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권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③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K : 1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072"/>
          <p:cNvSpPr/>
          <p:nvPr/>
        </p:nvSpPr>
        <p:spPr>
          <a:xfrm>
            <a:off x="4876920" y="954000"/>
            <a:ext cx="4114800" cy="578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1082"/>
          <p:cNvSpPr/>
          <p:nvPr/>
        </p:nvSpPr>
        <p:spPr>
          <a:xfrm>
            <a:off x="7112160" y="1968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083"/>
          <p:cNvSpPr/>
          <p:nvPr/>
        </p:nvSpPr>
        <p:spPr>
          <a:xfrm>
            <a:off x="7124760" y="30592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 Box 1084"/>
          <p:cNvSpPr/>
          <p:nvPr/>
        </p:nvSpPr>
        <p:spPr>
          <a:xfrm>
            <a:off x="7135920" y="4130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1085"/>
          <p:cNvSpPr/>
          <p:nvPr/>
        </p:nvSpPr>
        <p:spPr>
          <a:xfrm>
            <a:off x="7124760" y="5192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1086"/>
          <p:cNvSpPr/>
          <p:nvPr/>
        </p:nvSpPr>
        <p:spPr>
          <a:xfrm>
            <a:off x="7129440" y="6432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tretch/>
        </p:blipFill>
        <p:spPr>
          <a:xfrm>
            <a:off x="5695920" y="1041480"/>
            <a:ext cx="1424160" cy="11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2"/>
          <a:stretch/>
        </p:blipFill>
        <p:spPr>
          <a:xfrm>
            <a:off x="5695920" y="2289240"/>
            <a:ext cx="1424160" cy="97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5695920" y="339264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708520" y="447048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5711760" y="5546880"/>
            <a:ext cx="14320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0652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85800" y="1981080"/>
            <a:ext cx="3886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에서 해당 일정을 선택한 후 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삭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일정을 수정 또는 삭제를 하면 해당 일정을 공유하고 있는 모든 사용자들에게 공통 적용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11080" y="1371600"/>
            <a:ext cx="815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낸 일정이 변경 또는 취소 되었을 경우에 보낸 일정에 대해 수정 및 삭제를 하면 해당 일정을 받은 사용자의 일정도 역시 수정 또는 삭제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4960" y="40356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85800" y="4572000"/>
            <a:ext cx="3886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화면 왼쪽 옆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 화면에서 여러 선택옵션들을 이용하여 일정을 파악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11" descr="56"/>
          <p:cNvPicPr/>
          <p:nvPr/>
        </p:nvPicPr>
        <p:blipFill>
          <a:blip r:embed="rId1"/>
          <a:stretch/>
        </p:blipFill>
        <p:spPr>
          <a:xfrm>
            <a:off x="2743200" y="434340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1255680" cy="1441440"/>
          </a:xfrm>
          <a:prstGeom prst="rect">
            <a:avLst/>
          </a:prstGeom>
          <a:ln w="0">
            <a:noFill/>
          </a:ln>
        </p:spPr>
      </p:pic>
      <p:pic>
        <p:nvPicPr>
          <p:cNvPr id="571" name="그림 12" descr="일정관리3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4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27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온라인상태 및 별칭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Text Box 1029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온라인상태 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Text Box 1032"/>
          <p:cNvSpPr/>
          <p:nvPr/>
        </p:nvSpPr>
        <p:spPr>
          <a:xfrm>
            <a:off x="844560" y="1322280"/>
            <a:ext cx="45720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상단에 위치해있는 상태 아이콘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 그림에서 상태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 아닌 다른 상태의 사용자에게는 채팅신청을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집중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태로 두면 쪽지나 채팅 신청을 받았을 때 알람을 주지 않으므로 중요한 업무나 수업 중에 이 상태로 두면 메신저로 인해 방해를 받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Text Box 1034"/>
          <p:cNvSpPr/>
          <p:nvPr/>
        </p:nvSpPr>
        <p:spPr>
          <a:xfrm>
            <a:off x="7237440" y="1984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 Box 1035"/>
          <p:cNvSpPr/>
          <p:nvPr/>
        </p:nvSpPr>
        <p:spPr>
          <a:xfrm>
            <a:off x="7634160" y="30481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036"/>
          <p:cNvSpPr/>
          <p:nvPr/>
        </p:nvSpPr>
        <p:spPr>
          <a:xfrm>
            <a:off x="539640" y="388476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별칭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1037"/>
          <p:cNvSpPr/>
          <p:nvPr/>
        </p:nvSpPr>
        <p:spPr>
          <a:xfrm>
            <a:off x="863640" y="4822920"/>
            <a:ext cx="4572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적당한 별칭 내용을 입력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적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1038"/>
          <p:cNvSpPr/>
          <p:nvPr/>
        </p:nvSpPr>
        <p:spPr>
          <a:xfrm>
            <a:off x="844560" y="422424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별칭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개인적인 상태를 나타낼 수 있는 기능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전 교육청 출장 중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으로 해 놓으면 메신저가 꺼져있어도 다른 사용자들에게 본인의 상태를 나타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Text Box 1044"/>
          <p:cNvSpPr/>
          <p:nvPr/>
        </p:nvSpPr>
        <p:spPr>
          <a:xfrm>
            <a:off x="7038720" y="6237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1" name="Picture 1047" descr="60"/>
          <p:cNvPicPr/>
          <p:nvPr/>
        </p:nvPicPr>
        <p:blipFill>
          <a:blip r:embed="rId1"/>
          <a:stretch/>
        </p:blipFill>
        <p:spPr>
          <a:xfrm>
            <a:off x="5943600" y="990720"/>
            <a:ext cx="2259000" cy="9903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048"/>
          <p:cNvSpPr/>
          <p:nvPr/>
        </p:nvSpPr>
        <p:spPr>
          <a:xfrm>
            <a:off x="6019920" y="1295280"/>
            <a:ext cx="533160" cy="685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Object 1024"/>
          <p:cNvGraphicFramePr/>
          <p:nvPr/>
        </p:nvGraphicFramePr>
        <p:xfrm>
          <a:off x="6443640" y="2421000"/>
          <a:ext cx="10098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21000"/>
                    <a:ext cx="10098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5" name="그림 16" descr="별칭변경.jpg"/>
          <p:cNvPicPr/>
          <p:nvPr/>
        </p:nvPicPr>
        <p:blipFill>
          <a:blip r:embed="rId4"/>
          <a:stretch/>
        </p:blipFill>
        <p:spPr>
          <a:xfrm>
            <a:off x="6084720" y="4005360"/>
            <a:ext cx="24973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9640" y="765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11280" y="1103400"/>
            <a:ext cx="50385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른 사용자들에게 나타나는 개인적인 상태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나타낼</a:t>
            </a: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전 출장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으로 해 놓으면 다른 사용자들에게 정확히 본인의 상태를 나타낼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나의 별칭정보를 변경할 수 있는 사용자에 등록된 사용자들은 본인의 별칭을 변경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동 부재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박스 선택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혹은 다른 하위메뉴를 선택하시고 시간을 지정하시면 자동으로 원하는 상태로 전환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표시를 하고 프로그램 잠금을 설정하면 자동으로 프로그램 잠금상태로 변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받은 파일폴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파일 다운로드 시 기본으로 저장될 폴더를 지정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사용자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록에서 나타나는 사용자이름을 조합하여 나타냅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된 항목만 나타나며 순서도 바꿀 수 있습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목록보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첨부파일이 나타나는 모든 화면에서 첨부파일이 나타나는 기본 형태를 설정합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9" name="그림 5" descr="환경설정 개인.jpg"/>
          <p:cNvPicPr/>
          <p:nvPr/>
        </p:nvPicPr>
        <p:blipFill>
          <a:blip r:embed="rId1"/>
          <a:stretch/>
        </p:blipFill>
        <p:spPr>
          <a:xfrm>
            <a:off x="5724360" y="1484280"/>
            <a:ext cx="30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44400" y="1467000"/>
            <a:ext cx="46483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수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수신 시 내용을 바로 보여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바로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전송시 수신확인에 자동으로 체크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송이 완료되면 전송완료 되었다는 알림창을 띄웁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 기능을 적용할 사용자를 선택하여 설정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보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된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지정한 기간동안 보관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때 쪽지는 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5435640" y="5229360"/>
            <a:ext cx="34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쪽지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게시물 바로 보기를 체크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부재중일 때 다른 사람이 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옆을 지나가다 내용을 볼 수 있으므로 사용에 주의를 요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4" name="그림 6" descr="환경설정 메세지1.jpg"/>
          <p:cNvPicPr/>
          <p:nvPr/>
        </p:nvPicPr>
        <p:blipFill>
          <a:blip r:embed="rId1"/>
          <a:stretch/>
        </p:blipFill>
        <p:spPr>
          <a:xfrm>
            <a:off x="5292720" y="1844640"/>
            <a:ext cx="3570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7" name="그림 10" descr="환경설정 메세지2.jpg"/>
          <p:cNvPicPr/>
          <p:nvPr/>
        </p:nvPicPr>
        <p:blipFill>
          <a:blip r:embed="rId1"/>
          <a:stretch/>
        </p:blipFill>
        <p:spPr>
          <a:xfrm>
            <a:off x="5003640" y="1484280"/>
            <a:ext cx="3625920" cy="3384720"/>
          </a:xfrm>
          <a:prstGeom prst="rect">
            <a:avLst/>
          </a:prstGeom>
          <a:ln w="0">
            <a:noFill/>
          </a:ln>
        </p:spPr>
      </p:pic>
      <p:sp>
        <p:nvSpPr>
          <p:cNvPr id="598" name="직사각형 11"/>
          <p:cNvSpPr/>
          <p:nvPr/>
        </p:nvSpPr>
        <p:spPr>
          <a:xfrm>
            <a:off x="684360" y="1557360"/>
            <a:ext cx="4248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폰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신시 적용 할 기본 폰트를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버튼 클릭하면 아래와 같이 글꼴 설정창이 보여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폰트를 지정해 주시고 확인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50800" y="1335240"/>
            <a:ext cx="49402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설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를 부팅하면 자동으로 메신저를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실행 시 자동으로 로그인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로 전환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가 실행되면 임시로 받은 첨부파일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‘오늘’ 창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창을 항상 제일 위에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잠금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잠시 자리를 비우거나 할 때 다른 사람이 쪽지내용을 보지 못하도록 프로그램을 잠글 때 사용할 비밀번호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 변경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를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비밀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 사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정보 등을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508720" y="45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컴퓨터 부팅 시 자동으로 로그 인을 원하는 경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프로그램 자동실행’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, 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자동 로그인’ 항목이 모두 체크되어 있어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3" name="그림 6" descr="환경설정 일반.jpg"/>
          <p:cNvPicPr/>
          <p:nvPr/>
        </p:nvPicPr>
        <p:blipFill>
          <a:blip r:embed="rId1"/>
          <a:stretch/>
        </p:blipFill>
        <p:spPr>
          <a:xfrm>
            <a:off x="5508720" y="1341360"/>
            <a:ext cx="34160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5640" y="1484280"/>
            <a:ext cx="43210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내용에 시간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동저장된 채팅 내용은 파일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난대화보기에서 확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중 상대방이 채팅창에 흔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시 채팅창이 흔들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시작시 채팅창을 제일 위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채팅창 내용을 바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알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소리로 알려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작업표시줄의 채팅창 프로그램을 깜박거리게하는 시간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더블 클릭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도의 사용자를 더블클릭시 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보내기 창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7" name="그림 5" descr="환경설정 채팅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알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도착하면 이를 알리기 위해 윈도우즈 오른쪽 하단에 팝업 창이 스크롤 되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팝업을 원하는 메시지만 선택하여 팝업 서비스를 받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 스크롤 시간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도착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면에 종류별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표시되는 시간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에 보이는 알림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1" name="그림 5" descr="환경설정 알람.jpg"/>
          <p:cNvPicPr/>
          <p:nvPr/>
        </p:nvPicPr>
        <p:blipFill>
          <a:blip r:embed="rId1"/>
          <a:stretch/>
        </p:blipFill>
        <p:spPr>
          <a:xfrm>
            <a:off x="4932360" y="1700280"/>
            <a:ext cx="3840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시간 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알람시간을 설정하면 해당 시간에  일정알람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음력날짜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 리스트 표에 음력이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구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의 종류를 사용자가 직접 추가하고 순서를 변경할 수 있으며 표시되는 글자의 색상도 설정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그림 5" descr="환경설정 일정.jpg"/>
          <p:cNvPicPr/>
          <p:nvPr/>
        </p:nvPicPr>
        <p:blipFill>
          <a:blip r:embed="rId1"/>
          <a:stretch/>
        </p:blipFill>
        <p:spPr>
          <a:xfrm>
            <a:off x="4932360" y="1413000"/>
            <a:ext cx="3840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768240" y="150984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15960" y="213372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0" name="그림 7" descr="환경설정 메일.jpg"/>
          <p:cNvPicPr/>
          <p:nvPr/>
        </p:nvPicPr>
        <p:blipFill>
          <a:blip r:embed="rId1"/>
          <a:stretch/>
        </p:blipFill>
        <p:spPr>
          <a:xfrm>
            <a:off x="5724360" y="2060640"/>
            <a:ext cx="3090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"/>
          <p:cNvPicPr/>
          <p:nvPr/>
        </p:nvPicPr>
        <p:blipFill>
          <a:blip r:embed="rId1"/>
          <a:stretch/>
        </p:blipFill>
        <p:spPr>
          <a:xfrm>
            <a:off x="6588000" y="4262400"/>
            <a:ext cx="1656000" cy="246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tretch/>
        </p:blipFill>
        <p:spPr>
          <a:xfrm>
            <a:off x="5508720" y="1573200"/>
            <a:ext cx="2735280" cy="2298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90720" y="457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로그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신저 접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19052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시스템에 접속하기 위해서는 아래 그림과 같이 로그인 환경을 설정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74"/>
          <p:cNvSpPr/>
          <p:nvPr/>
        </p:nvSpPr>
        <p:spPr>
          <a:xfrm>
            <a:off x="799920" y="91440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환경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76"/>
          <p:cNvSpPr/>
          <p:nvPr/>
        </p:nvSpPr>
        <p:spPr>
          <a:xfrm>
            <a:off x="990720" y="1647720"/>
            <a:ext cx="4190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로그인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접속시험 버튼을 눌러 메신저 서버에 정상적으로 접속할 수 있는지 테스트 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저장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를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로그인시 비밀번호를 기억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계정신청 버튼을 눌러 서버관리자에게 계정신청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위 네 가지 입력 항목들은 고객사의 메신저 서버관리자가 알고 있으므로 메신저 서버 관리자에게 문의하여 정보를 입력하셔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914400" y="453852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시스템에 로그 인을 하기 위해서는 로그인 환경설정이 맞게 설정되어 있어야 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797760" y="42624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1020600" y="5262480"/>
            <a:ext cx="4343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환경 설정 후 아래 그림과 같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하면 접속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동접속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번 로그인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 입력 없이 프로그램 실행 시 바로 접속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86"/>
          <p:cNvSpPr/>
          <p:nvPr/>
        </p:nvSpPr>
        <p:spPr>
          <a:xfrm>
            <a:off x="6080040" y="1989000"/>
            <a:ext cx="19544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6080040" y="2781360"/>
            <a:ext cx="1954440" cy="531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88"/>
          <p:cNvSpPr/>
          <p:nvPr/>
        </p:nvSpPr>
        <p:spPr>
          <a:xfrm>
            <a:off x="6659640" y="4827600"/>
            <a:ext cx="12254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104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탭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8240" y="150480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메인 화면의 왼쪽 기능 버튼들의 순서를 바꿀 수 있으며 버튼들을 보이거나 감추게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순서를 바꿀 때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위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아래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버튼을 이용하고 보이기 여부는 체크로 설정하면 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4" name="그림 5" descr="환경설정 탭.jpg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39640" y="907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9) SM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684360" y="141300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에 가입한 사용자들은 크로샷과 연동하여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M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내기를 사용하실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직사각형 6"/>
          <p:cNvSpPr/>
          <p:nvPr/>
        </p:nvSpPr>
        <p:spPr>
          <a:xfrm>
            <a:off x="684360" y="2997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이 크로샷에 가입하셨다면 클라이언트 설정 사용        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사각형 7"/>
          <p:cNvSpPr/>
          <p:nvPr/>
        </p:nvSpPr>
        <p:spPr>
          <a:xfrm>
            <a:off x="684360" y="21337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관이나 단체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을 가입하셨다면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버 설정 사용 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0" name="그림 8" descr="환경설정 SNS.jpg"/>
          <p:cNvPicPr/>
          <p:nvPr/>
        </p:nvPicPr>
        <p:blipFill>
          <a:blip r:embed="rId1"/>
          <a:stretch/>
        </p:blipFill>
        <p:spPr>
          <a:xfrm>
            <a:off x="5292720" y="2060640"/>
            <a:ext cx="3532320" cy="3672000"/>
          </a:xfrm>
          <a:prstGeom prst="rect">
            <a:avLst/>
          </a:prstGeom>
          <a:ln w="12600">
            <a:solidFill>
              <a:srgbClr val="d6d6f5"/>
            </a:solidFill>
            <a:miter/>
          </a:ln>
        </p:spPr>
      </p:pic>
      <p:sp>
        <p:nvSpPr>
          <p:cNvPr id="631" name="직사각형 9"/>
          <p:cNvSpPr/>
          <p:nvPr/>
        </p:nvSpPr>
        <p:spPr>
          <a:xfrm>
            <a:off x="755640" y="38606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자기능 요금문의는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과 연동하고 있으므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으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의 바랍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자주 묻는 질문응답 모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9640" y="105264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변경하려고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어디에서 변경할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메뉴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일반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탭의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인정보변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에서 변경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전송 개수와 크기는  상관없이 전송 가능한가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전송 개수에는 상관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만 파일크기는 서버관리자가 지정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팅 중 다른 사람을 초대할 수 있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팅 중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초대버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을 누르면 초대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컴퓨터가 꺼져 있는 상황에서 받은 메시지와 파일은  나중에 받을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컴퓨터가 꺼져있는 상황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면 나중에 로그인하면 메시지와 파일을 받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다른 사람에게 보낸 일정이 변경이 되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하면 모두 바뀌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보낸 사람이 보낸 일정을 선택한 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메뉴를 선택하여 일정을 수정하여 저장하면 해당 일정을 받은 수신자들의 일정도 변경이 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파일박스에서 폴더생성 메뉴가 안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 경우는 해당 부서 파일박스에 설정된 권한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권한이 아닙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시스템 관리자가 해당 파일박스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권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으로 설정하면 폴더생성이 가능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게시판에서 본인이 작성한 게시판 글은 수정과 삭제가 가능합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게시판 작성자는 본인이 작성한 게시판 글에 대해 삭제가 가능하지만 수정은 안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또한 관리자 권한을 가진 사용자는 다름 사람이 작성한 게시판 글을 삭제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2840" y="27108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26.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고객지원 연락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98560" y="92880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좀더 자세한 내용이 필요하시거나 의문사항이 있으시면 언제든지 연락주십시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708200" y="2073240"/>
            <a:ext cx="531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제품홈페이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http://www.activepost.co.kr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술지원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 : support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192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라이센스 및 구매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: sales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anthos@activepost.net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085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7399440" y="1569960"/>
            <a:ext cx="1203120" cy="23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tretch/>
        </p:blipFill>
        <p:spPr>
          <a:xfrm>
            <a:off x="7391520" y="4284720"/>
            <a:ext cx="1203120" cy="236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5800" y="22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천리안체"/>
                <a:ea typeface="천리안체"/>
              </a:rPr>
              <a:t>03-1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30492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7520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소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전체 주소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094040" y="838080"/>
            <a:ext cx="50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-Suit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지로 분류하여 나타냅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503000" y="1125360"/>
            <a:ext cx="4661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가 임의로 그룹을 만들어 관리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속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신의 소속부서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조직의 모든 부서 및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만약 본인의 소속 탭에 안내표시와 함께 아무것도 표시되지 않는다면 고객사의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 관리자에게 문의하여 소속을 할당 받으시기 바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914400" y="2962440"/>
            <a:ext cx="57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에는 기본으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잦은 연락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협조부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이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은 사용자가 임의로 그룹을 만들고 사용자를 추가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 수와 사용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사용자가 제일 위쪽에 우선적으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931320" y="2647800"/>
            <a:ext cx="15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 만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035080" y="393696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위 그림과 같은 팝업 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명을 입력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146240" y="4838760"/>
            <a:ext cx="23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의 그룹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1694520" y="5153040"/>
            <a:ext cx="317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그룹 명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팝업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이름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405560" y="3365640"/>
            <a:ext cx="86364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7391520" y="6227640"/>
            <a:ext cx="1211040" cy="297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1" descr="C:\Users\soyoun\Desktop\도움말\액티브포스트 도움말\사용자검색 개인주소록에 추가.jpg"/>
          <p:cNvPicPr/>
          <p:nvPr/>
        </p:nvPicPr>
        <p:blipFill>
          <a:blip r:embed="rId1"/>
          <a:stretch/>
        </p:blipFill>
        <p:spPr>
          <a:xfrm>
            <a:off x="4995720" y="3257640"/>
            <a:ext cx="246708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 주소록 사용자 추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삭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82480" y="838080"/>
            <a:ext cx="51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양한 방법으로 개인 주소록에 사용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추가 및 삭제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33520" y="1585800"/>
            <a:ext cx="41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소속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 주소록에서 사용자 가져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838080" y="19162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속 또는 전체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대화상대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오른쪽 마우스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33520" y="3352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검색해서 추가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838080" y="3719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상단 오른쪽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워드를 이용하여 원하는 사용자를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선택한 후 오른쪽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33520" y="5024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838080" y="541512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사용자를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오른쪽 팝업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5213520" y="4314960"/>
            <a:ext cx="1255680" cy="409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Picture 20" descr=""/>
          <p:cNvPicPr/>
          <p:nvPr/>
        </p:nvPicPr>
        <p:blipFill>
          <a:blip r:embed="rId2"/>
          <a:stretch/>
        </p:blipFill>
        <p:spPr>
          <a:xfrm>
            <a:off x="4995720" y="1174680"/>
            <a:ext cx="1447920" cy="19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4"/>
          <p:cNvSpPr/>
          <p:nvPr/>
        </p:nvSpPr>
        <p:spPr>
          <a:xfrm>
            <a:off x="5388120" y="2728800"/>
            <a:ext cx="1055520" cy="352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22" descr=""/>
          <p:cNvPicPr/>
          <p:nvPr/>
        </p:nvPicPr>
        <p:blipFill>
          <a:blip r:embed="rId3"/>
          <a:stretch/>
        </p:blipFill>
        <p:spPr>
          <a:xfrm>
            <a:off x="7478640" y="3860640"/>
            <a:ext cx="1463760" cy="283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6"/>
          <p:cNvSpPr/>
          <p:nvPr/>
        </p:nvSpPr>
        <p:spPr>
          <a:xfrm>
            <a:off x="7481880" y="5180040"/>
            <a:ext cx="1079640" cy="181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20" descr=""/>
          <p:cNvPicPr/>
          <p:nvPr/>
        </p:nvPicPr>
        <p:blipFill>
          <a:blip r:embed="rId4"/>
          <a:stretch/>
        </p:blipFill>
        <p:spPr>
          <a:xfrm>
            <a:off x="2708280" y="3741840"/>
            <a:ext cx="72864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6" descr="C:\Users\soyoun\Desktop\도움말\쪽지전송\쪽지_우클릭팝업.jpg"/>
          <p:cNvPicPr/>
          <p:nvPr/>
        </p:nvPicPr>
        <p:blipFill>
          <a:blip r:embed="rId1"/>
          <a:stretch/>
        </p:blipFill>
        <p:spPr>
          <a:xfrm>
            <a:off x="7391520" y="1155600"/>
            <a:ext cx="1292040" cy="1949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2"/>
          <a:stretch/>
        </p:blipFill>
        <p:spPr>
          <a:xfrm>
            <a:off x="5508720" y="1203480"/>
            <a:ext cx="1461960" cy="1850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 보내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82480" y="838080"/>
            <a:ext cx="649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로 전송할 수 있으며 이때 파일전송과 수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능을 함께 사용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3520" y="1523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38080" y="191628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메시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사용자를 선택한 후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/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 보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을 입력한 후 파일 첨부 후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33520" y="3162240"/>
            <a:ext cx="33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에 첨부하여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838080" y="3543480"/>
            <a:ext cx="41148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은 쪽지 전송 시 첨부하여 전송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개수에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의 크기는 고객사의 메신저 서버관리자가 지정한 크기를 초과할 수 없습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전송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하단의 파일첨부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하고자 하는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첨부 표시가 나타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전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수신대상자들에게 전송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한 쪽지와 첨부파일은 서버에 임시 저장되므로 수신대상자가 부재중일 때도 수신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나 채팅 내용은 메신저 서버관리자라도 서버에서 내용을 볼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331040" y="1149480"/>
            <a:ext cx="1417680" cy="168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8459640" y="4327560"/>
            <a:ext cx="505080" cy="142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Picture 18" descr="C:\Users\soyoun\Desktop\도움말\쪽지전송\쪽지_파일추가.jpg"/>
          <p:cNvPicPr/>
          <p:nvPr/>
        </p:nvPicPr>
        <p:blipFill>
          <a:blip r:embed="rId3"/>
          <a:stretch/>
        </p:blipFill>
        <p:spPr>
          <a:xfrm>
            <a:off x="5508720" y="3592440"/>
            <a:ext cx="3381120" cy="24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3867120" y="4653000"/>
            <a:ext cx="552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"/>
          <p:cNvPicPr/>
          <p:nvPr/>
        </p:nvPicPr>
        <p:blipFill>
          <a:blip r:embed="rId5"/>
          <a:stretch/>
        </p:blipFill>
        <p:spPr>
          <a:xfrm>
            <a:off x="3276720" y="5232240"/>
            <a:ext cx="54900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8:02:54Z</dcterms:created>
  <dc:creator>박인구</dc:creator>
  <dc:description/>
  <dc:language>en-US</dc:language>
  <cp:lastModifiedBy>park</cp:lastModifiedBy>
  <dcterms:modified xsi:type="dcterms:W3CDTF">2014-11-03T12:47:22Z</dcterms:modified>
  <cp:revision>858</cp:revision>
  <dc:subject/>
  <dc:title>액티브포스트 사용설명서-일반사용자용</dc:title>
</cp:coreProperties>
</file>